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10.wmf" ContentType="image/x-wmf"/>
  <Override PartName="/ppt/media/image55.jpeg" ContentType="image/jpeg"/>
  <Override PartName="/ppt/media/image58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70.wmf" ContentType="image/x-wmf"/>
  <Override PartName="/ppt/media/image44.jpeg" ContentType="image/jpeg"/>
  <Override PartName="/ppt/media/image38.png" ContentType="image/png"/>
  <Override PartName="/ppt/media/image35.jpeg" ContentType="image/jpeg"/>
  <Override PartName="/ppt/media/image37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15.jpeg" ContentType="image/jpeg"/>
  <Override PartName="/ppt/media/image17.jpeg" ContentType="image/jpeg"/>
  <Override PartName="/ppt/media/image20.jpeg" ContentType="image/jpeg"/>
  <Override PartName="/ppt/media/image61.png" ContentType="image/png"/>
  <Override PartName="/ppt/media/image24.jpeg" ContentType="image/jpeg"/>
  <Override PartName="/ppt/media/image22.png" ContentType="image/png"/>
  <Override PartName="/ppt/media/image34.jpeg" ContentType="image/jpeg"/>
  <Override PartName="/ppt/media/image26.jpeg" ContentType="image/jpeg"/>
  <Override PartName="/ppt/media/image18.jpeg" ContentType="image/jpeg"/>
  <Override PartName="/ppt/media/image62.jpeg" ContentType="image/jpeg"/>
  <Override PartName="/ppt/media/image69.jpeg" ContentType="image/jpeg"/>
  <Override PartName="/ppt/media/image76.wmf" ContentType="image/x-wmf"/>
  <Override PartName="/ppt/media/image21.jpeg" ContentType="image/jpeg"/>
  <Override PartName="/ppt/media/image80.jpeg" ContentType="image/jpeg"/>
  <Override PartName="/ppt/media/image74.jpeg" ContentType="image/jpeg"/>
  <Override PartName="/ppt/media/image75.png" ContentType="image/png"/>
  <Override PartName="/ppt/media/image8.jpeg" ContentType="image/jpeg"/>
  <Override PartName="/ppt/media/image77.wmf" ContentType="image/x-wmf"/>
  <Override PartName="/ppt/media/image16.jpeg" ContentType="image/jpeg"/>
  <Override PartName="/ppt/media/image60.jpeg" ContentType="image/jpeg"/>
  <Override PartName="/ppt/media/image3.jpeg" ContentType="image/jpeg"/>
  <Override PartName="/ppt/media/image73.wmf" ContentType="image/x-wmf"/>
  <Override PartName="/ppt/media/image72.jpeg" ContentType="image/jpeg"/>
  <Override PartName="/ppt/media/image79.wmf" ContentType="image/x-wmf"/>
  <Override PartName="/ppt/media/image9.png" ContentType="image/png"/>
  <Override PartName="/ppt/media/image68.jpeg" ContentType="image/jpeg"/>
  <Override PartName="/ppt/media/image65.jpeg" ContentType="image/jpeg"/>
  <Override PartName="/ppt/media/image71.wmf" ContentType="image/x-wmf"/>
  <Override PartName="/ppt/media/image1.png" ContentType="image/png"/>
  <Override PartName="/ppt/media/image66.jpeg" ContentType="image/jpeg"/>
  <Override PartName="/ppt/media/image6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3.jpeg" ContentType="image/jpeg"/>
  <Override PartName="/ppt/media/image2.jpeg" ContentType="image/jpeg"/>
  <Override PartName="/ppt/media/image78.wmf" ContentType="image/x-wmf"/>
  <Override PartName="/ppt/media/image36.jpeg" ContentType="image/jpeg"/>
  <Override PartName="/ppt/media/image27.png" ContentType="image/png"/>
  <Override PartName="/ppt/media/image33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28.jpeg" ContentType="image/jpeg"/>
  <Override PartName="/ppt/media/image4.png" ContentType="image/png"/>
  <Override PartName="/ppt/media/image7.jpeg" ContentType="image/jpeg"/>
  <Override PartName="/ppt/media/image39.png" ContentType="image/png"/>
  <Override PartName="/ppt/media/image64.jpeg" ContentType="image/jpeg"/>
  <Override PartName="/ppt/media/image25.jpeg" ContentType="image/jpeg"/>
  <Override PartName="/ppt/media/image31.jpeg" ContentType="image/jpeg"/>
  <Override PartName="/ppt/media/image30.jpeg" ContentType="image/jpeg"/>
  <Override PartName="/ppt/media/image3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6433-54C8-4407-A339-80D834E914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E973-07FD-419A-85BF-D5747B13E2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7944-14E9-4260-90ED-603AD8DEC1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BCCF-64A7-42C8-B5A4-50187E6C667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050A-79F3-4BD2-9140-7C777F4EF65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C9DC-A554-4A65-9EAA-24EB4B4B74E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CEE7-47F0-4CB5-9F93-03FB9D787B7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DC0-E1A0-4857-ADC2-57B138DA5A1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572E-FFC9-4A35-8CE8-2747BFFB45D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28E9-562C-44C6-80E7-9A90C68694B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B03F-B8EB-453D-92C8-15BB228596B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EB78-EAB2-444E-822E-C2FA2A38DE4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8E92-E614-4C92-998E-4E27804AAF5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3022-9B14-41A4-B345-425309DD143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7314-B5AD-4A74-8120-B0208B428E8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7C8A-3FCD-47DE-BE1A-9C308300CE0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AC20-1831-4B86-8636-44994F0A009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AA56-E7F6-4063-85CC-51CE638CA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912E-1716-4BC8-BBFD-CC27496D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3E8E-1E33-4BA6-A6CB-4DFBA1EB8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2B91-1B3D-4D0F-AC48-FEBDB2817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C7FB-905A-4AFD-B493-E9FA8807C60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270E-20F0-43A7-8236-8DF389B3E53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010-226D-4090-A8B1-53314C466BA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7457-5172-4B06-9491-382C2C9E9CB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7FC2-DA67-43D4-8BCB-4EE37254CB1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1233-2AA2-44DA-B133-841ECCA33AF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FA33-62CC-4E7E-A4C4-01657FA8E55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8C2D-F026-4B4D-98FD-6C4CBA78BE1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BFC9-3E3E-4446-8577-0FC413AB19C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9C2F-28AF-472E-B938-3A58B94A9BD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250D-ABBC-48F7-9904-59AD6E50B04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1558-09B0-4111-98F0-C5B8B8DA9D7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4C39-8784-4DE7-A630-678A33D5D96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9D0D-46C9-431D-94AE-F33B448418F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in American cities + dynamic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ead to urban modelling and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believe each research is motivated by a scientific curiosity, and to some extend to a faith that that is a topic worth being expl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my case, I had worked with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I first came to CASA I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0B07-EAD0-4192-903F-5839F0584B6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in American cities + dynamic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ead to urban modelling and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believe each research is motivated by a scientific curiosity, and to some extend to a faith that that is a topic worth being expl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my case, I had worked with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I first came to CASA I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4BF6-244A-4E50-AD5B-F0FAB915037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1D94-92AB-4F85-9ED3-3B4378E4B45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543C-38E4-4AB3-B67B-64C533BD44A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9E3B-18C2-4CE3-BB4C-1169DAED8EA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1345-BB68-424A-9807-E4A6B44C941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F54B-9A5F-4691-800A-ADAC5BAF73C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9756-EA8B-4408-A3DA-93B6C76C17A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242F-D7DC-47DE-B7BC-21CD92E9BDB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DD77-366E-4DCA-B8E0-D81CDA31296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0CBA-69D9-41C3-8C73-64C820CE775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BC0A-D61E-4AD1-B37E-DEC6888B0DF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0904-D915-4EDC-A17D-F877330B4D3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74E6-7784-43C3-8596-D53EB86983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D8F-BAAC-4B32-A54D-00B779E9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A15-F8CE-43ED-88DE-4C7716A6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9F4-4B56-4ACA-A5FE-94EE54E8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AE1-09B3-4A47-9743-42CA9DD9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2A0-B888-4178-92AA-0FACB08D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DED-FEB1-4578-9B66-345F96DD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25E-DDEA-4813-9FDE-D93F2066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108-0942-43F4-9E42-6B800AC7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6CC-489E-43AB-98F4-D52284FB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38A-CCD7-48AD-994D-9E90656E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73C-B601-49EA-87DF-695CC2F2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23A-22D0-4CA7-AAD7-4520DFF1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4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499600" cy="49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360080"/>
            <a:ext cx="8488440" cy="310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12720" y="1130400"/>
            <a:ext cx="7810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612720" y="6033960"/>
            <a:ext cx="7810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mage of small USGS Identifier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469800" y="626112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7048440" y="6464160"/>
            <a:ext cx="149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9CF2-B482-477B-8071-9DF7B7CEBC7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7085160" y="6249960"/>
            <a:ext cx="1104480" cy="495360"/>
            <a:chOff x="7085160" y="6249960"/>
            <a:chExt cx="1104480" cy="495360"/>
          </a:xfrm>
        </p:grpSpPr>
        <p:pic>
          <p:nvPicPr>
            <p:cNvPr id="49" name="Picture 10" descr="top7_home"/>
            <p:cNvPicPr/>
            <p:nvPr/>
          </p:nvPicPr>
          <p:blipFill>
            <a:blip r:embed="rId5"/>
            <a:stretch/>
          </p:blipFill>
          <p:spPr>
            <a:xfrm>
              <a:off x="7383240" y="6249960"/>
              <a:ext cx="473040" cy="4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top6_home"/>
            <p:cNvPicPr/>
            <p:nvPr/>
          </p:nvPicPr>
          <p:blipFill>
            <a:blip r:embed="rId6"/>
            <a:stretch/>
          </p:blipFill>
          <p:spPr>
            <a:xfrm>
              <a:off x="7085160" y="6251040"/>
              <a:ext cx="298080" cy="4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top8_home"/>
            <p:cNvPicPr/>
            <p:nvPr/>
          </p:nvPicPr>
          <p:blipFill>
            <a:blip r:embed="rId7"/>
            <a:stretch/>
          </p:blipFill>
          <p:spPr>
            <a:xfrm>
              <a:off x="7855560" y="6249960"/>
              <a:ext cx="334080" cy="494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685800" y="380880"/>
            <a:ext cx="8229600" cy="6098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m 6" descr="borda_slide.png"/>
          <p:cNvPicPr/>
          <p:nvPr/>
        </p:nvPicPr>
        <p:blipFill>
          <a:blip r:embed="rId2"/>
          <a:stretch/>
        </p:blipFill>
        <p:spPr>
          <a:xfrm>
            <a:off x="0" y="258840"/>
            <a:ext cx="431640" cy="6608520"/>
          </a:xfrm>
          <a:prstGeom prst="rect">
            <a:avLst/>
          </a:prstGeom>
          <a:ln w="0">
            <a:noFill/>
          </a:ln>
        </p:spPr>
      </p:pic>
      <p:pic>
        <p:nvPicPr>
          <p:cNvPr id="90" name="Imagem 6" descr="ìnpe_simbolo.jpg"/>
          <p:cNvPicPr/>
          <p:nvPr/>
        </p:nvPicPr>
        <p:blipFill>
          <a:blip r:embed="rId3"/>
          <a:stretch/>
        </p:blipFill>
        <p:spPr>
          <a:xfrm>
            <a:off x="0" y="0"/>
            <a:ext cx="571680" cy="428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84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94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20" descr="logocomp"/>
          <p:cNvPicPr/>
          <p:nvPr/>
        </p:nvPicPr>
        <p:blipFill>
          <a:blip r:embed="rId4"/>
          <a:stretch/>
        </p:blipFill>
        <p:spPr>
          <a:xfrm>
            <a:off x="2438280" y="152280"/>
            <a:ext cx="5029200" cy="792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6AA6-2B81-4859-BFA8-122A7066BB0E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Line 5"/>
          <p:cNvSpPr/>
          <p:nvPr/>
        </p:nvSpPr>
        <p:spPr>
          <a:xfrm>
            <a:off x="612720" y="1130400"/>
            <a:ext cx="7810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612720" y="6033960"/>
            <a:ext cx="7810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Image of small USGS Identifier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469800" y="626112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7048440" y="6464160"/>
            <a:ext cx="149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3118-23F9-4419-B7F3-2FD6A565388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"/>
          <p:cNvGrpSpPr/>
          <p:nvPr/>
        </p:nvGrpSpPr>
        <p:grpSpPr>
          <a:xfrm>
            <a:off x="7085160" y="6249960"/>
            <a:ext cx="1104480" cy="495360"/>
            <a:chOff x="7085160" y="6249960"/>
            <a:chExt cx="1104480" cy="495360"/>
          </a:xfrm>
        </p:grpSpPr>
        <p:pic>
          <p:nvPicPr>
            <p:cNvPr id="152" name="Picture 10" descr="top7_home"/>
            <p:cNvPicPr/>
            <p:nvPr/>
          </p:nvPicPr>
          <p:blipFill>
            <a:blip r:embed="rId5"/>
            <a:stretch/>
          </p:blipFill>
          <p:spPr>
            <a:xfrm>
              <a:off x="7383240" y="6249960"/>
              <a:ext cx="473040" cy="4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top6_home"/>
            <p:cNvPicPr/>
            <p:nvPr/>
          </p:nvPicPr>
          <p:blipFill>
            <a:blip r:embed="rId6"/>
            <a:stretch/>
          </p:blipFill>
          <p:spPr>
            <a:xfrm>
              <a:off x="7085160" y="6251040"/>
              <a:ext cx="298080" cy="4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2" descr="top8_home"/>
            <p:cNvPicPr/>
            <p:nvPr/>
          </p:nvPicPr>
          <p:blipFill>
            <a:blip r:embed="rId7"/>
            <a:stretch/>
          </p:blipFill>
          <p:spPr>
            <a:xfrm>
              <a:off x="7855560" y="6249960"/>
              <a:ext cx="334080" cy="49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"/>
          <p:cNvGrpSpPr/>
          <p:nvPr/>
        </p:nvGrpSpPr>
        <p:grpSpPr>
          <a:xfrm>
            <a:off x="7516800" y="433440"/>
            <a:ext cx="1015920" cy="355680"/>
            <a:chOff x="7516800" y="433440"/>
            <a:chExt cx="1015920" cy="355680"/>
          </a:xfrm>
        </p:grpSpPr>
        <p:pic>
          <p:nvPicPr>
            <p:cNvPr id="156" name="Picture 5" descr="top7_home"/>
            <p:cNvPicPr/>
            <p:nvPr/>
          </p:nvPicPr>
          <p:blipFill>
            <a:blip r:embed="rId8"/>
            <a:stretch/>
          </p:blipFill>
          <p:spPr>
            <a:xfrm>
              <a:off x="7791120" y="433440"/>
              <a:ext cx="434880" cy="3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top6_home"/>
            <p:cNvPicPr/>
            <p:nvPr/>
          </p:nvPicPr>
          <p:blipFill>
            <a:blip r:embed="rId9"/>
            <a:stretch/>
          </p:blipFill>
          <p:spPr>
            <a:xfrm>
              <a:off x="7516800" y="434160"/>
              <a:ext cx="274320" cy="3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7" descr="top8_home"/>
            <p:cNvPicPr/>
            <p:nvPr/>
          </p:nvPicPr>
          <p:blipFill>
            <a:blip r:embed="rId10"/>
            <a:stretch/>
          </p:blipFill>
          <p:spPr>
            <a:xfrm>
              <a:off x="8225280" y="433440"/>
              <a:ext cx="307440" cy="35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8" descr=""/>
          <p:cNvPicPr/>
          <p:nvPr/>
        </p:nvPicPr>
        <p:blipFill>
          <a:blip r:embed="rId11"/>
          <a:srcRect l="0" t="0" r="0" b="28123"/>
          <a:stretch/>
        </p:blipFill>
        <p:spPr>
          <a:xfrm>
            <a:off x="544680" y="438120"/>
            <a:ext cx="1082520" cy="289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499600" cy="49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6840" y="1360080"/>
            <a:ext cx="8488440" cy="310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2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terrame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Agent-based models and social simulation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lberto Câmara</a:t>
            </a:r>
            <a:endParaRPr b="0" lang="en-US" sz="3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ago Carneiro</a:t>
            </a:r>
            <a:endParaRPr b="0" lang="en-US" sz="3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dro Andrade</a:t>
            </a:r>
            <a:endParaRPr b="0" lang="en-US" sz="3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7" name="Retângulo 4"/>
          <p:cNvSpPr/>
          <p:nvPr/>
        </p:nvSpPr>
        <p:spPr>
          <a:xfrm>
            <a:off x="1449360" y="6119640"/>
            <a:ext cx="7342200" cy="580680"/>
          </a:xfrm>
          <a:prstGeom prst="rect">
            <a:avLst/>
          </a:prstGeom>
          <a:solidFill>
            <a:srgbClr val="d6d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Licence: Creative Commons  ̶̶̶̶  By Attribution  ̶̶̶̶  Non Commercial  ̶̶̶̶  Share A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http://creativecommons.org/licenses/by-nc-sa/2.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133200" y="6195960"/>
            <a:ext cx="129888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What are complex adaptive systems?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4360" y="4581360"/>
            <a:ext cx="8229600" cy="19432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f"/>
                </a:solidFill>
                <a:latin typeface="Calibri"/>
              </a:rPr>
              <a:t>Systems composed of many interacting parts that evolve and adapt over time. 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f"/>
                </a:solidFill>
                <a:latin typeface="Calibri"/>
              </a:rPr>
              <a:t>Organized behavior emerges from the simultaneous interactions of parts without any global plan.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032360" cy="2930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995640" cy="31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  <a:ea typeface="DejaVu Sans"/>
              </a:rPr>
              <a:t>What are complex adaptive systems?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Universal Comput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5000760" y="1214280"/>
            <a:ext cx="3786120" cy="3571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3822840" cy="36435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571680" y="5072040"/>
            <a:ext cx="4071600" cy="8254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Computing studies information flows in natural system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5000760" y="5072040"/>
            <a:ext cx="4143240" cy="11912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...and how to represent and work with information flows in artifici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Calibri"/>
              </a:rPr>
              <a:t>Agents as basis for complex systems</a:t>
            </a:r>
            <a:endParaRPr b="1" lang="en-US" sz="3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4240" y="5928840"/>
            <a:ext cx="8143920" cy="500040"/>
          </a:xfrm>
          <a:prstGeom prst="rect">
            <a:avLst/>
          </a:prstGeom>
          <a:solidFill>
            <a:srgbClr val="a5dea2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umnst777 BT"/>
              </a:rPr>
              <a:t>Agent: flexible, interacting and autonomou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57200" y="1800360"/>
            <a:ext cx="86868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457200" y="1357200"/>
            <a:ext cx="8686800" cy="928800"/>
          </a:xfrm>
          <a:prstGeom prst="rect">
            <a:avLst/>
          </a:prstGeom>
          <a:solidFill>
            <a:srgbClr val="a5d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 agent is any actor within an environment, any entity that can affect itself, the environment and other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571840" y="2786040"/>
            <a:ext cx="346716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-Based Modell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572200" y="3016080"/>
            <a:ext cx="6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ts val="216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625320" y="2817720"/>
            <a:ext cx="8518320" cy="3522600"/>
            <a:chOff x="625320" y="2817720"/>
            <a:chExt cx="8518320" cy="3522600"/>
          </a:xfrm>
        </p:grpSpPr>
        <p:grpSp>
          <p:nvGrpSpPr>
            <p:cNvPr id="257" name="Group 11"/>
            <p:cNvGrpSpPr/>
            <p:nvPr/>
          </p:nvGrpSpPr>
          <p:grpSpPr>
            <a:xfrm>
              <a:off x="625320" y="2817720"/>
              <a:ext cx="8518320" cy="3056040"/>
              <a:chOff x="625320" y="2817720"/>
              <a:chExt cx="8518320" cy="3056040"/>
            </a:xfrm>
          </p:grpSpPr>
          <p:sp>
            <p:nvSpPr>
              <p:cNvPr id="258" name="Freeform 12"/>
              <p:cNvSpPr/>
              <p:nvPr/>
            </p:nvSpPr>
            <p:spPr>
              <a:xfrm>
                <a:off x="625320" y="2817720"/>
                <a:ext cx="8505720" cy="3041640"/>
              </a:xfrm>
              <a:custGeom>
                <a:avLst/>
                <a:gdLst>
                  <a:gd name="textAreaLeft" fmla="*/ 0 w 8505720"/>
                  <a:gd name="textAreaRight" fmla="*/ 8506080 w 8505720"/>
                  <a:gd name="textAreaTop" fmla="*/ 0 h 3041640"/>
                  <a:gd name="textAreaBottom" fmla="*/ 3042000 h 30416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9" y="0"/>
                    </a:lnTo>
                    <a:lnTo>
                      <a:pt x="10000" y="0"/>
                    </a:lnTo>
                    <a:lnTo>
                      <a:pt x="6330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3"/>
              <p:cNvSpPr/>
              <p:nvPr/>
            </p:nvSpPr>
            <p:spPr>
              <a:xfrm>
                <a:off x="625320" y="2819520"/>
                <a:ext cx="8518320" cy="3054240"/>
              </a:xfrm>
              <a:custGeom>
                <a:avLst/>
                <a:gdLst>
                  <a:gd name="textAreaLeft" fmla="*/ 0 w 8518320"/>
                  <a:gd name="textAreaRight" fmla="*/ 8518680 w 8518320"/>
                  <a:gd name="textAreaTop" fmla="*/ 0 h 3054240"/>
                  <a:gd name="textAreaBottom" fmla="*/ 3054600 h 30542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70" y="0"/>
                    </a:lnTo>
                    <a:lnTo>
                      <a:pt x="10000" y="0"/>
                    </a:lnTo>
                    <a:lnTo>
                      <a:pt x="6329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4"/>
            <p:cNvGrpSpPr/>
            <p:nvPr/>
          </p:nvGrpSpPr>
          <p:grpSpPr>
            <a:xfrm>
              <a:off x="1695240" y="5472000"/>
              <a:ext cx="2043000" cy="868320"/>
              <a:chOff x="1695240" y="5472000"/>
              <a:chExt cx="2043000" cy="868320"/>
            </a:xfrm>
          </p:grpSpPr>
          <p:sp>
            <p:nvSpPr>
              <p:cNvPr id="261" name="Freeform 15"/>
              <p:cNvSpPr/>
              <p:nvPr/>
            </p:nvSpPr>
            <p:spPr>
              <a:xfrm>
                <a:off x="1695240" y="5472000"/>
                <a:ext cx="2043000" cy="453960"/>
              </a:xfrm>
              <a:custGeom>
                <a:avLst/>
                <a:gdLst>
                  <a:gd name="textAreaLeft" fmla="*/ 0 w 2043000"/>
                  <a:gd name="textAreaRight" fmla="*/ 2043360 w 2043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16"/>
              <p:cNvSpPr/>
              <p:nvPr/>
            </p:nvSpPr>
            <p:spPr>
              <a:xfrm>
                <a:off x="1773000" y="5516280"/>
                <a:ext cx="19177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nviron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874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17"/>
          <p:cNvGrpSpPr/>
          <p:nvPr/>
        </p:nvGrpSpPr>
        <p:grpSpPr>
          <a:xfrm>
            <a:off x="3216240" y="2981160"/>
            <a:ext cx="4522680" cy="1292040"/>
            <a:chOff x="3216240" y="2981160"/>
            <a:chExt cx="4522680" cy="1292040"/>
          </a:xfrm>
        </p:grpSpPr>
        <p:grpSp>
          <p:nvGrpSpPr>
            <p:cNvPr id="264" name="Group 18"/>
            <p:cNvGrpSpPr/>
            <p:nvPr/>
          </p:nvGrpSpPr>
          <p:grpSpPr>
            <a:xfrm>
              <a:off x="3216240" y="2981160"/>
              <a:ext cx="1246320" cy="1216080"/>
              <a:chOff x="3216240" y="2981160"/>
              <a:chExt cx="1246320" cy="1216080"/>
            </a:xfrm>
          </p:grpSpPr>
          <p:sp>
            <p:nvSpPr>
              <p:cNvPr id="265" name="Freeform 19"/>
              <p:cNvSpPr/>
              <p:nvPr/>
            </p:nvSpPr>
            <p:spPr>
              <a:xfrm>
                <a:off x="3216240" y="2981160"/>
                <a:ext cx="1246320" cy="1216080"/>
              </a:xfrm>
              <a:custGeom>
                <a:avLst/>
                <a:gdLst>
                  <a:gd name="textAreaLeft" fmla="*/ 0 w 1246320"/>
                  <a:gd name="textAreaRight" fmla="*/ 1246680 w 124632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20"/>
              <p:cNvGrpSpPr/>
              <p:nvPr/>
            </p:nvGrpSpPr>
            <p:grpSpPr>
              <a:xfrm>
                <a:off x="3657600" y="3101760"/>
                <a:ext cx="368280" cy="982440"/>
                <a:chOff x="3657600" y="3101760"/>
                <a:chExt cx="368280" cy="982440"/>
              </a:xfrm>
            </p:grpSpPr>
            <p:sp>
              <p:nvSpPr>
                <p:cNvPr id="267" name="Freeform 21"/>
                <p:cNvSpPr/>
                <p:nvPr/>
              </p:nvSpPr>
              <p:spPr>
                <a:xfrm>
                  <a:off x="3657600" y="3290760"/>
                  <a:ext cx="368280" cy="79344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793440"/>
                    <a:gd name="textAreaBottom" fmla="*/ 793800 h 79344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2"/>
                <p:cNvSpPr/>
                <p:nvPr/>
              </p:nvSpPr>
              <p:spPr>
                <a:xfrm>
                  <a:off x="3762360" y="3101760"/>
                  <a:ext cx="142200" cy="145800"/>
                </a:xfrm>
                <a:custGeom>
                  <a:avLst/>
                  <a:gdLst>
                    <a:gd name="textAreaLeft" fmla="*/ 0 w 142200"/>
                    <a:gd name="textAreaRight" fmla="*/ 142560 w 14220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23"/>
            <p:cNvGrpSpPr/>
            <p:nvPr/>
          </p:nvGrpSpPr>
          <p:grpSpPr>
            <a:xfrm>
              <a:off x="6492960" y="3057120"/>
              <a:ext cx="1245960" cy="1216080"/>
              <a:chOff x="6492960" y="3057120"/>
              <a:chExt cx="1245960" cy="1216080"/>
            </a:xfrm>
          </p:grpSpPr>
          <p:sp>
            <p:nvSpPr>
              <p:cNvPr id="270" name="Freeform 24"/>
              <p:cNvSpPr/>
              <p:nvPr/>
            </p:nvSpPr>
            <p:spPr>
              <a:xfrm>
                <a:off x="6492960" y="3057120"/>
                <a:ext cx="1245960" cy="121608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209" y="0"/>
                    </a:moveTo>
                    <a:lnTo>
                      <a:pt x="8790" y="0"/>
                    </a:lnTo>
                    <a:cubicBezTo>
                      <a:pt x="9458" y="0"/>
                      <a:pt x="10000" y="555"/>
                      <a:pt x="10000" y="1239"/>
                    </a:cubicBezTo>
                    <a:lnTo>
                      <a:pt x="10000" y="8760"/>
                    </a:lnTo>
                    <a:cubicBezTo>
                      <a:pt x="10000" y="9444"/>
                      <a:pt x="9458" y="10000"/>
                      <a:pt x="8790" y="10000"/>
                    </a:cubicBezTo>
                    <a:lnTo>
                      <a:pt x="1209" y="10000"/>
                    </a:lnTo>
                    <a:cubicBezTo>
                      <a:pt x="541" y="10000"/>
                      <a:pt x="0" y="9444"/>
                      <a:pt x="0" y="8760"/>
                    </a:cubicBezTo>
                    <a:lnTo>
                      <a:pt x="0" y="1239"/>
                    </a:lnTo>
                    <a:cubicBezTo>
                      <a:pt x="0" y="555"/>
                      <a:pt x="541" y="0"/>
                      <a:pt x="1209" y="0"/>
                    </a:cubicBezTo>
                    <a:close/>
                    <a:moveTo>
                      <a:pt x="1209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25"/>
              <p:cNvGrpSpPr/>
              <p:nvPr/>
            </p:nvGrpSpPr>
            <p:grpSpPr>
              <a:xfrm>
                <a:off x="6932160" y="3177720"/>
                <a:ext cx="367920" cy="982800"/>
                <a:chOff x="6932160" y="3177720"/>
                <a:chExt cx="367920" cy="982800"/>
              </a:xfrm>
            </p:grpSpPr>
            <p:sp>
              <p:nvSpPr>
                <p:cNvPr id="272" name="Freeform 26"/>
                <p:cNvSpPr/>
                <p:nvPr/>
              </p:nvSpPr>
              <p:spPr>
                <a:xfrm>
                  <a:off x="6932160" y="3366720"/>
                  <a:ext cx="367920" cy="79380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89" y="0"/>
                      </a:moveTo>
                      <a:lnTo>
                        <a:pt x="7654" y="0"/>
                      </a:lnTo>
                      <a:lnTo>
                        <a:pt x="7831" y="0"/>
                      </a:lnTo>
                      <a:lnTo>
                        <a:pt x="7964" y="20"/>
                      </a:lnTo>
                      <a:lnTo>
                        <a:pt x="8097" y="20"/>
                      </a:lnTo>
                      <a:lnTo>
                        <a:pt x="8185" y="40"/>
                      </a:lnTo>
                      <a:lnTo>
                        <a:pt x="8318" y="60"/>
                      </a:lnTo>
                      <a:lnTo>
                        <a:pt x="8495" y="60"/>
                      </a:lnTo>
                      <a:lnTo>
                        <a:pt x="8628" y="80"/>
                      </a:lnTo>
                      <a:lnTo>
                        <a:pt x="8761" y="120"/>
                      </a:lnTo>
                      <a:lnTo>
                        <a:pt x="8849" y="140"/>
                      </a:lnTo>
                      <a:lnTo>
                        <a:pt x="8982" y="160"/>
                      </a:lnTo>
                      <a:lnTo>
                        <a:pt x="9159" y="220"/>
                      </a:lnTo>
                      <a:lnTo>
                        <a:pt x="9292" y="260"/>
                      </a:lnTo>
                      <a:lnTo>
                        <a:pt x="9380" y="300"/>
                      </a:lnTo>
                      <a:lnTo>
                        <a:pt x="9557" y="360"/>
                      </a:lnTo>
                      <a:lnTo>
                        <a:pt x="9646" y="420"/>
                      </a:lnTo>
                      <a:lnTo>
                        <a:pt x="9734" y="480"/>
                      </a:lnTo>
                      <a:lnTo>
                        <a:pt x="9867" y="560"/>
                      </a:lnTo>
                      <a:lnTo>
                        <a:pt x="9911" y="620"/>
                      </a:lnTo>
                      <a:lnTo>
                        <a:pt x="10000" y="700"/>
                      </a:lnTo>
                      <a:lnTo>
                        <a:pt x="10000" y="760"/>
                      </a:lnTo>
                      <a:lnTo>
                        <a:pt x="10000" y="840"/>
                      </a:lnTo>
                      <a:lnTo>
                        <a:pt x="10000" y="4540"/>
                      </a:lnTo>
                      <a:lnTo>
                        <a:pt x="9955" y="4580"/>
                      </a:lnTo>
                      <a:lnTo>
                        <a:pt x="9911" y="4620"/>
                      </a:lnTo>
                      <a:lnTo>
                        <a:pt x="9911" y="4680"/>
                      </a:lnTo>
                      <a:lnTo>
                        <a:pt x="9867" y="4700"/>
                      </a:lnTo>
                      <a:lnTo>
                        <a:pt x="9778" y="4760"/>
                      </a:lnTo>
                      <a:lnTo>
                        <a:pt x="9690" y="4800"/>
                      </a:lnTo>
                      <a:lnTo>
                        <a:pt x="9557" y="4840"/>
                      </a:lnTo>
                      <a:lnTo>
                        <a:pt x="9424" y="4880"/>
                      </a:lnTo>
                      <a:lnTo>
                        <a:pt x="9380" y="4900"/>
                      </a:lnTo>
                      <a:lnTo>
                        <a:pt x="9247" y="4900"/>
                      </a:lnTo>
                      <a:lnTo>
                        <a:pt x="9115" y="4900"/>
                      </a:lnTo>
                      <a:lnTo>
                        <a:pt x="8982" y="4900"/>
                      </a:lnTo>
                      <a:lnTo>
                        <a:pt x="8849" y="4900"/>
                      </a:lnTo>
                      <a:lnTo>
                        <a:pt x="8716" y="4860"/>
                      </a:lnTo>
                      <a:lnTo>
                        <a:pt x="8628" y="4860"/>
                      </a:lnTo>
                      <a:lnTo>
                        <a:pt x="8539" y="4820"/>
                      </a:lnTo>
                      <a:lnTo>
                        <a:pt x="8495" y="4780"/>
                      </a:lnTo>
                      <a:lnTo>
                        <a:pt x="8407" y="4740"/>
                      </a:lnTo>
                      <a:lnTo>
                        <a:pt x="8362" y="4700"/>
                      </a:lnTo>
                      <a:lnTo>
                        <a:pt x="8274" y="4680"/>
                      </a:lnTo>
                      <a:lnTo>
                        <a:pt x="8274" y="4640"/>
                      </a:lnTo>
                      <a:lnTo>
                        <a:pt x="8230" y="4600"/>
                      </a:lnTo>
                      <a:lnTo>
                        <a:pt x="8230" y="4580"/>
                      </a:lnTo>
                      <a:lnTo>
                        <a:pt x="8185" y="4520"/>
                      </a:lnTo>
                      <a:lnTo>
                        <a:pt x="8230" y="1700"/>
                      </a:lnTo>
                      <a:lnTo>
                        <a:pt x="7654" y="1700"/>
                      </a:lnTo>
                      <a:lnTo>
                        <a:pt x="7654" y="9440"/>
                      </a:lnTo>
                      <a:lnTo>
                        <a:pt x="7654" y="9520"/>
                      </a:lnTo>
                      <a:lnTo>
                        <a:pt x="7610" y="9600"/>
                      </a:lnTo>
                      <a:lnTo>
                        <a:pt x="7566" y="9680"/>
                      </a:lnTo>
                      <a:lnTo>
                        <a:pt x="7477" y="9760"/>
                      </a:lnTo>
                      <a:lnTo>
                        <a:pt x="7345" y="9820"/>
                      </a:lnTo>
                      <a:lnTo>
                        <a:pt x="7256" y="9880"/>
                      </a:lnTo>
                      <a:lnTo>
                        <a:pt x="7123" y="9920"/>
                      </a:lnTo>
                      <a:lnTo>
                        <a:pt x="6991" y="9960"/>
                      </a:lnTo>
                      <a:lnTo>
                        <a:pt x="6858" y="9980"/>
                      </a:lnTo>
                      <a:lnTo>
                        <a:pt x="6725" y="10000"/>
                      </a:lnTo>
                      <a:lnTo>
                        <a:pt x="6637" y="10000"/>
                      </a:lnTo>
                      <a:lnTo>
                        <a:pt x="6504" y="10000"/>
                      </a:lnTo>
                      <a:lnTo>
                        <a:pt x="6371" y="10000"/>
                      </a:lnTo>
                      <a:lnTo>
                        <a:pt x="6238" y="10000"/>
                      </a:lnTo>
                      <a:lnTo>
                        <a:pt x="6061" y="9980"/>
                      </a:lnTo>
                      <a:lnTo>
                        <a:pt x="5884" y="9940"/>
                      </a:lnTo>
                      <a:lnTo>
                        <a:pt x="5752" y="9920"/>
                      </a:lnTo>
                      <a:lnTo>
                        <a:pt x="5663" y="9860"/>
                      </a:lnTo>
                      <a:lnTo>
                        <a:pt x="5619" y="9840"/>
                      </a:lnTo>
                      <a:lnTo>
                        <a:pt x="5530" y="9780"/>
                      </a:lnTo>
                      <a:lnTo>
                        <a:pt x="5442" y="9720"/>
                      </a:lnTo>
                      <a:lnTo>
                        <a:pt x="5398" y="9680"/>
                      </a:lnTo>
                      <a:lnTo>
                        <a:pt x="5353" y="9620"/>
                      </a:lnTo>
                      <a:lnTo>
                        <a:pt x="5309" y="9560"/>
                      </a:lnTo>
                      <a:lnTo>
                        <a:pt x="5309" y="9500"/>
                      </a:lnTo>
                      <a:lnTo>
                        <a:pt x="5309" y="4780"/>
                      </a:lnTo>
                      <a:lnTo>
                        <a:pt x="4690" y="4780"/>
                      </a:lnTo>
                      <a:lnTo>
                        <a:pt x="4690" y="9480"/>
                      </a:lnTo>
                      <a:lnTo>
                        <a:pt x="4646" y="9560"/>
                      </a:lnTo>
                      <a:lnTo>
                        <a:pt x="4646" y="9600"/>
                      </a:lnTo>
                      <a:lnTo>
                        <a:pt x="4557" y="9700"/>
                      </a:lnTo>
                      <a:lnTo>
                        <a:pt x="4469" y="9760"/>
                      </a:lnTo>
                      <a:lnTo>
                        <a:pt x="4380" y="9820"/>
                      </a:lnTo>
                      <a:lnTo>
                        <a:pt x="4292" y="9880"/>
                      </a:lnTo>
                      <a:lnTo>
                        <a:pt x="4159" y="9940"/>
                      </a:lnTo>
                      <a:lnTo>
                        <a:pt x="3982" y="9960"/>
                      </a:lnTo>
                      <a:lnTo>
                        <a:pt x="3761" y="10000"/>
                      </a:lnTo>
                      <a:lnTo>
                        <a:pt x="3584" y="10000"/>
                      </a:lnTo>
                      <a:lnTo>
                        <a:pt x="3407" y="10000"/>
                      </a:lnTo>
                      <a:lnTo>
                        <a:pt x="3274" y="10000"/>
                      </a:lnTo>
                      <a:lnTo>
                        <a:pt x="3141" y="9980"/>
                      </a:lnTo>
                      <a:lnTo>
                        <a:pt x="3053" y="9960"/>
                      </a:lnTo>
                      <a:lnTo>
                        <a:pt x="2920" y="9940"/>
                      </a:lnTo>
                      <a:lnTo>
                        <a:pt x="2787" y="9900"/>
                      </a:lnTo>
                      <a:lnTo>
                        <a:pt x="2654" y="9840"/>
                      </a:lnTo>
                      <a:lnTo>
                        <a:pt x="2610" y="9800"/>
                      </a:lnTo>
                      <a:lnTo>
                        <a:pt x="2522" y="9740"/>
                      </a:lnTo>
                      <a:lnTo>
                        <a:pt x="2433" y="9680"/>
                      </a:lnTo>
                      <a:lnTo>
                        <a:pt x="2433" y="9620"/>
                      </a:lnTo>
                      <a:lnTo>
                        <a:pt x="2389" y="9580"/>
                      </a:lnTo>
                      <a:lnTo>
                        <a:pt x="2345" y="9480"/>
                      </a:lnTo>
                      <a:lnTo>
                        <a:pt x="2345" y="1700"/>
                      </a:lnTo>
                      <a:lnTo>
                        <a:pt x="1769" y="1700"/>
                      </a:lnTo>
                      <a:lnTo>
                        <a:pt x="1769" y="4520"/>
                      </a:lnTo>
                      <a:lnTo>
                        <a:pt x="1769" y="4580"/>
                      </a:lnTo>
                      <a:lnTo>
                        <a:pt x="1725" y="4640"/>
                      </a:lnTo>
                      <a:lnTo>
                        <a:pt x="1681" y="4680"/>
                      </a:lnTo>
                      <a:lnTo>
                        <a:pt x="1592" y="4720"/>
                      </a:lnTo>
                      <a:lnTo>
                        <a:pt x="1592" y="4740"/>
                      </a:lnTo>
                      <a:lnTo>
                        <a:pt x="1548" y="4780"/>
                      </a:lnTo>
                      <a:lnTo>
                        <a:pt x="1460" y="4800"/>
                      </a:lnTo>
                      <a:lnTo>
                        <a:pt x="1415" y="4820"/>
                      </a:lnTo>
                      <a:lnTo>
                        <a:pt x="1327" y="4860"/>
                      </a:lnTo>
                      <a:lnTo>
                        <a:pt x="1238" y="4860"/>
                      </a:lnTo>
                      <a:lnTo>
                        <a:pt x="1150" y="4900"/>
                      </a:lnTo>
                      <a:lnTo>
                        <a:pt x="1061" y="4900"/>
                      </a:lnTo>
                      <a:lnTo>
                        <a:pt x="1017" y="4900"/>
                      </a:lnTo>
                      <a:lnTo>
                        <a:pt x="929" y="4900"/>
                      </a:lnTo>
                      <a:lnTo>
                        <a:pt x="752" y="4900"/>
                      </a:lnTo>
                      <a:lnTo>
                        <a:pt x="707" y="4900"/>
                      </a:lnTo>
                      <a:lnTo>
                        <a:pt x="619" y="4900"/>
                      </a:lnTo>
                      <a:lnTo>
                        <a:pt x="530" y="4880"/>
                      </a:lnTo>
                      <a:lnTo>
                        <a:pt x="486" y="4860"/>
                      </a:lnTo>
                      <a:lnTo>
                        <a:pt x="442" y="4840"/>
                      </a:lnTo>
                      <a:lnTo>
                        <a:pt x="353" y="4820"/>
                      </a:lnTo>
                      <a:lnTo>
                        <a:pt x="309" y="4800"/>
                      </a:lnTo>
                      <a:lnTo>
                        <a:pt x="221" y="4760"/>
                      </a:lnTo>
                      <a:lnTo>
                        <a:pt x="176" y="4720"/>
                      </a:lnTo>
                      <a:lnTo>
                        <a:pt x="132" y="4700"/>
                      </a:lnTo>
                      <a:lnTo>
                        <a:pt x="88" y="4680"/>
                      </a:lnTo>
                      <a:lnTo>
                        <a:pt x="44" y="4620"/>
                      </a:lnTo>
                      <a:lnTo>
                        <a:pt x="44" y="4580"/>
                      </a:lnTo>
                      <a:lnTo>
                        <a:pt x="0" y="4540"/>
                      </a:lnTo>
                      <a:lnTo>
                        <a:pt x="0" y="820"/>
                      </a:lnTo>
                      <a:lnTo>
                        <a:pt x="44" y="680"/>
                      </a:lnTo>
                      <a:lnTo>
                        <a:pt x="88" y="600"/>
                      </a:lnTo>
                      <a:lnTo>
                        <a:pt x="221" y="500"/>
                      </a:lnTo>
                      <a:lnTo>
                        <a:pt x="353" y="440"/>
                      </a:lnTo>
                      <a:lnTo>
                        <a:pt x="486" y="380"/>
                      </a:lnTo>
                      <a:lnTo>
                        <a:pt x="619" y="300"/>
                      </a:lnTo>
                      <a:lnTo>
                        <a:pt x="796" y="240"/>
                      </a:lnTo>
                      <a:lnTo>
                        <a:pt x="1061" y="160"/>
                      </a:lnTo>
                      <a:lnTo>
                        <a:pt x="1238" y="120"/>
                      </a:lnTo>
                      <a:lnTo>
                        <a:pt x="1415" y="100"/>
                      </a:lnTo>
                      <a:lnTo>
                        <a:pt x="1681" y="60"/>
                      </a:lnTo>
                      <a:lnTo>
                        <a:pt x="1902" y="40"/>
                      </a:lnTo>
                      <a:lnTo>
                        <a:pt x="2123" y="20"/>
                      </a:lnTo>
                      <a:lnTo>
                        <a:pt x="238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27"/>
                <p:cNvSpPr/>
                <p:nvPr/>
              </p:nvSpPr>
              <p:spPr>
                <a:xfrm>
                  <a:off x="7036560" y="3177720"/>
                  <a:ext cx="142560" cy="14616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28"/>
          <p:cNvGrpSpPr/>
          <p:nvPr/>
        </p:nvGrpSpPr>
        <p:grpSpPr>
          <a:xfrm>
            <a:off x="3962520" y="1380960"/>
            <a:ext cx="3467160" cy="1738440"/>
            <a:chOff x="3962520" y="1380960"/>
            <a:chExt cx="3467160" cy="1738440"/>
          </a:xfrm>
        </p:grpSpPr>
        <p:sp>
          <p:nvSpPr>
            <p:cNvPr id="275" name="Freeform 29"/>
            <p:cNvSpPr/>
            <p:nvPr/>
          </p:nvSpPr>
          <p:spPr>
            <a:xfrm>
              <a:off x="3998880" y="2979720"/>
              <a:ext cx="455760" cy="139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39680"/>
                <a:gd name="textAreaBottom" fmla="*/ 139680 h 139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0"/>
            <p:cNvSpPr/>
            <p:nvPr/>
          </p:nvSpPr>
          <p:spPr>
            <a:xfrm>
              <a:off x="4295880" y="2597040"/>
              <a:ext cx="768240" cy="3700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1"/>
            <p:cNvSpPr/>
            <p:nvPr/>
          </p:nvSpPr>
          <p:spPr>
            <a:xfrm>
              <a:off x="4471920" y="1681200"/>
              <a:ext cx="2957760" cy="979560"/>
            </a:xfrm>
            <a:custGeom>
              <a:avLst/>
              <a:gdLst>
                <a:gd name="textAreaLeft" fmla="*/ 0 w 2957760"/>
                <a:gd name="textAreaRight" fmla="*/ 2958120 w 29577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5000" y="0"/>
                  </a:moveTo>
                  <a:cubicBezTo>
                    <a:pt x="2238" y="0"/>
                    <a:pt x="0" y="2238"/>
                    <a:pt x="0" y="5000"/>
                  </a:cubicBezTo>
                  <a:cubicBezTo>
                    <a:pt x="0" y="7761"/>
                    <a:pt x="2238" y="10000"/>
                    <a:pt x="5000" y="10000"/>
                  </a:cubicBezTo>
                  <a:cubicBezTo>
                    <a:pt x="7761" y="10000"/>
                    <a:pt x="10000" y="7761"/>
                    <a:pt x="10000" y="5000"/>
                  </a:cubicBezTo>
                  <a:cubicBezTo>
                    <a:pt x="10000" y="2238"/>
                    <a:pt x="7761" y="0"/>
                    <a:pt x="5000" y="0"/>
                  </a:cubicBezTo>
                  <a:close/>
                  <a:moveTo>
                    <a:pt x="500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2"/>
            <p:cNvGrpSpPr/>
            <p:nvPr/>
          </p:nvGrpSpPr>
          <p:grpSpPr>
            <a:xfrm>
              <a:off x="5924520" y="1736640"/>
              <a:ext cx="664920" cy="649080"/>
              <a:chOff x="5924520" y="1736640"/>
              <a:chExt cx="664920" cy="649080"/>
            </a:xfrm>
          </p:grpSpPr>
          <p:sp>
            <p:nvSpPr>
              <p:cNvPr id="279" name="Freeform 33"/>
              <p:cNvSpPr/>
              <p:nvPr/>
            </p:nvSpPr>
            <p:spPr>
              <a:xfrm>
                <a:off x="5924520" y="1736640"/>
                <a:ext cx="664920" cy="64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649080"/>
                  <a:gd name="textAreaBottom" fmla="*/ 649440 h 64908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3" y="0"/>
                    </a:moveTo>
                    <a:lnTo>
                      <a:pt x="8806" y="0"/>
                    </a:lnTo>
                    <a:cubicBezTo>
                      <a:pt x="9465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5" y="10000"/>
                      <a:pt x="8806" y="10000"/>
                    </a:cubicBezTo>
                    <a:lnTo>
                      <a:pt x="1193" y="10000"/>
                    </a:lnTo>
                    <a:cubicBezTo>
                      <a:pt x="534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4" y="0"/>
                      <a:pt x="1193" y="0"/>
                    </a:cubicBezTo>
                    <a:close/>
                    <a:moveTo>
                      <a:pt x="1193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34"/>
              <p:cNvGrpSpPr/>
              <p:nvPr/>
            </p:nvGrpSpPr>
            <p:grpSpPr>
              <a:xfrm>
                <a:off x="6161040" y="1798560"/>
                <a:ext cx="193680" cy="528480"/>
                <a:chOff x="6161040" y="1798560"/>
                <a:chExt cx="193680" cy="528480"/>
              </a:xfrm>
            </p:grpSpPr>
            <p:sp>
              <p:nvSpPr>
                <p:cNvPr id="281" name="Freeform 35"/>
                <p:cNvSpPr/>
                <p:nvPr/>
              </p:nvSpPr>
              <p:spPr>
                <a:xfrm>
                  <a:off x="6161040" y="1901520"/>
                  <a:ext cx="193680" cy="4255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52" y="0"/>
                      </a:moveTo>
                      <a:lnTo>
                        <a:pt x="7647" y="0"/>
                      </a:lnTo>
                      <a:lnTo>
                        <a:pt x="7815" y="0"/>
                      </a:lnTo>
                      <a:lnTo>
                        <a:pt x="7983" y="0"/>
                      </a:lnTo>
                      <a:lnTo>
                        <a:pt x="8067" y="0"/>
                      </a:lnTo>
                      <a:lnTo>
                        <a:pt x="8151" y="37"/>
                      </a:lnTo>
                      <a:lnTo>
                        <a:pt x="8319" y="37"/>
                      </a:lnTo>
                      <a:lnTo>
                        <a:pt x="8403" y="37"/>
                      </a:lnTo>
                      <a:lnTo>
                        <a:pt x="8571" y="74"/>
                      </a:lnTo>
                      <a:lnTo>
                        <a:pt x="8739" y="111"/>
                      </a:lnTo>
                      <a:lnTo>
                        <a:pt x="8823" y="111"/>
                      </a:lnTo>
                      <a:lnTo>
                        <a:pt x="8991" y="149"/>
                      </a:lnTo>
                      <a:lnTo>
                        <a:pt x="9159" y="186"/>
                      </a:lnTo>
                      <a:lnTo>
                        <a:pt x="9243" y="223"/>
                      </a:lnTo>
                      <a:lnTo>
                        <a:pt x="9411" y="298"/>
                      </a:lnTo>
                      <a:lnTo>
                        <a:pt x="9495" y="373"/>
                      </a:lnTo>
                      <a:lnTo>
                        <a:pt x="9579" y="410"/>
                      </a:lnTo>
                      <a:lnTo>
                        <a:pt x="9747" y="485"/>
                      </a:lnTo>
                      <a:lnTo>
                        <a:pt x="9831" y="559"/>
                      </a:lnTo>
                      <a:lnTo>
                        <a:pt x="9915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5" y="4589"/>
                      </a:lnTo>
                      <a:lnTo>
                        <a:pt x="9915" y="4626"/>
                      </a:lnTo>
                      <a:lnTo>
                        <a:pt x="9831" y="4701"/>
                      </a:lnTo>
                      <a:lnTo>
                        <a:pt x="9831" y="4738"/>
                      </a:lnTo>
                      <a:lnTo>
                        <a:pt x="9747" y="4776"/>
                      </a:lnTo>
                      <a:lnTo>
                        <a:pt x="9663" y="4813"/>
                      </a:lnTo>
                      <a:lnTo>
                        <a:pt x="9495" y="4850"/>
                      </a:lnTo>
                      <a:lnTo>
                        <a:pt x="9411" y="4888"/>
                      </a:lnTo>
                      <a:lnTo>
                        <a:pt x="9327" y="4925"/>
                      </a:lnTo>
                      <a:lnTo>
                        <a:pt x="9243" y="4925"/>
                      </a:lnTo>
                      <a:lnTo>
                        <a:pt x="9075" y="4925"/>
                      </a:lnTo>
                      <a:lnTo>
                        <a:pt x="8991" y="4925"/>
                      </a:lnTo>
                      <a:lnTo>
                        <a:pt x="8823" y="4925"/>
                      </a:lnTo>
                      <a:lnTo>
                        <a:pt x="8739" y="4888"/>
                      </a:lnTo>
                      <a:lnTo>
                        <a:pt x="8571" y="4888"/>
                      </a:lnTo>
                      <a:lnTo>
                        <a:pt x="8487" y="4850"/>
                      </a:lnTo>
                      <a:lnTo>
                        <a:pt x="8403" y="4813"/>
                      </a:lnTo>
                      <a:lnTo>
                        <a:pt x="8319" y="4776"/>
                      </a:lnTo>
                      <a:lnTo>
                        <a:pt x="8319" y="4738"/>
                      </a:lnTo>
                      <a:lnTo>
                        <a:pt x="8235" y="4701"/>
                      </a:lnTo>
                      <a:lnTo>
                        <a:pt x="8235" y="4664"/>
                      </a:lnTo>
                      <a:lnTo>
                        <a:pt x="8235" y="4626"/>
                      </a:lnTo>
                      <a:lnTo>
                        <a:pt x="8151" y="4589"/>
                      </a:lnTo>
                      <a:lnTo>
                        <a:pt x="8151" y="4552"/>
                      </a:lnTo>
                      <a:lnTo>
                        <a:pt x="8151" y="1679"/>
                      </a:lnTo>
                      <a:lnTo>
                        <a:pt x="7647" y="1679"/>
                      </a:lnTo>
                      <a:lnTo>
                        <a:pt x="7647" y="9440"/>
                      </a:lnTo>
                      <a:lnTo>
                        <a:pt x="7647" y="9514"/>
                      </a:lnTo>
                      <a:lnTo>
                        <a:pt x="7563" y="9589"/>
                      </a:lnTo>
                      <a:lnTo>
                        <a:pt x="7478" y="9701"/>
                      </a:lnTo>
                      <a:lnTo>
                        <a:pt x="7394" y="9776"/>
                      </a:lnTo>
                      <a:lnTo>
                        <a:pt x="7310" y="9813"/>
                      </a:lnTo>
                      <a:lnTo>
                        <a:pt x="7226" y="9888"/>
                      </a:lnTo>
                      <a:lnTo>
                        <a:pt x="7058" y="9925"/>
                      </a:lnTo>
                      <a:lnTo>
                        <a:pt x="6890" y="9962"/>
                      </a:lnTo>
                      <a:lnTo>
                        <a:pt x="6890" y="10000"/>
                      </a:lnTo>
                      <a:lnTo>
                        <a:pt x="6722" y="10000"/>
                      </a:lnTo>
                      <a:lnTo>
                        <a:pt x="6638" y="10000"/>
                      </a:lnTo>
                      <a:lnTo>
                        <a:pt x="6470" y="10000"/>
                      </a:lnTo>
                      <a:lnTo>
                        <a:pt x="6386" y="10000"/>
                      </a:lnTo>
                      <a:lnTo>
                        <a:pt x="6218" y="10000"/>
                      </a:lnTo>
                      <a:lnTo>
                        <a:pt x="5966" y="10000"/>
                      </a:lnTo>
                      <a:lnTo>
                        <a:pt x="5882" y="9962"/>
                      </a:lnTo>
                      <a:lnTo>
                        <a:pt x="5714" y="9925"/>
                      </a:lnTo>
                      <a:lnTo>
                        <a:pt x="5630" y="9888"/>
                      </a:lnTo>
                      <a:lnTo>
                        <a:pt x="5630" y="9850"/>
                      </a:lnTo>
                      <a:lnTo>
                        <a:pt x="5462" y="9776"/>
                      </a:lnTo>
                      <a:lnTo>
                        <a:pt x="5378" y="9701"/>
                      </a:lnTo>
                      <a:lnTo>
                        <a:pt x="5378" y="9664"/>
                      </a:lnTo>
                      <a:lnTo>
                        <a:pt x="5294" y="9626"/>
                      </a:lnTo>
                      <a:lnTo>
                        <a:pt x="5294" y="9552"/>
                      </a:lnTo>
                      <a:lnTo>
                        <a:pt x="5294" y="9514"/>
                      </a:lnTo>
                      <a:lnTo>
                        <a:pt x="5294" y="4813"/>
                      </a:lnTo>
                      <a:lnTo>
                        <a:pt x="4621" y="4813"/>
                      </a:lnTo>
                      <a:lnTo>
                        <a:pt x="4621" y="9477"/>
                      </a:lnTo>
                      <a:lnTo>
                        <a:pt x="4621" y="9552"/>
                      </a:lnTo>
                      <a:lnTo>
                        <a:pt x="4621" y="9626"/>
                      </a:lnTo>
                      <a:lnTo>
                        <a:pt x="4537" y="9701"/>
                      </a:lnTo>
                      <a:lnTo>
                        <a:pt x="4453" y="9776"/>
                      </a:lnTo>
                      <a:lnTo>
                        <a:pt x="4369" y="9850"/>
                      </a:lnTo>
                      <a:lnTo>
                        <a:pt x="4285" y="9888"/>
                      </a:lnTo>
                      <a:lnTo>
                        <a:pt x="4117" y="9925"/>
                      </a:lnTo>
                      <a:lnTo>
                        <a:pt x="3949" y="9962"/>
                      </a:lnTo>
                      <a:lnTo>
                        <a:pt x="3781" y="10000"/>
                      </a:lnTo>
                      <a:lnTo>
                        <a:pt x="3529" y="10000"/>
                      </a:lnTo>
                      <a:lnTo>
                        <a:pt x="3361" y="10000"/>
                      </a:lnTo>
                      <a:lnTo>
                        <a:pt x="3193" y="10000"/>
                      </a:lnTo>
                      <a:lnTo>
                        <a:pt x="3109" y="10000"/>
                      </a:lnTo>
                      <a:lnTo>
                        <a:pt x="3025" y="9962"/>
                      </a:lnTo>
                      <a:lnTo>
                        <a:pt x="2941" y="9925"/>
                      </a:lnTo>
                      <a:lnTo>
                        <a:pt x="2773" y="9888"/>
                      </a:lnTo>
                      <a:lnTo>
                        <a:pt x="2605" y="9850"/>
                      </a:lnTo>
                      <a:lnTo>
                        <a:pt x="2605" y="9813"/>
                      </a:lnTo>
                      <a:lnTo>
                        <a:pt x="2436" y="9738"/>
                      </a:lnTo>
                      <a:lnTo>
                        <a:pt x="2352" y="9701"/>
                      </a:lnTo>
                      <a:lnTo>
                        <a:pt x="2352" y="9626"/>
                      </a:lnTo>
                      <a:lnTo>
                        <a:pt x="2352" y="9589"/>
                      </a:lnTo>
                      <a:lnTo>
                        <a:pt x="2268" y="9477"/>
                      </a:lnTo>
                      <a:lnTo>
                        <a:pt x="2268" y="1679"/>
                      </a:lnTo>
                      <a:lnTo>
                        <a:pt x="1764" y="1679"/>
                      </a:lnTo>
                      <a:lnTo>
                        <a:pt x="1764" y="4552"/>
                      </a:lnTo>
                      <a:lnTo>
                        <a:pt x="1764" y="4589"/>
                      </a:lnTo>
                      <a:lnTo>
                        <a:pt x="1680" y="4664"/>
                      </a:lnTo>
                      <a:lnTo>
                        <a:pt x="1680" y="4701"/>
                      </a:lnTo>
                      <a:lnTo>
                        <a:pt x="1596" y="4738"/>
                      </a:lnTo>
                      <a:lnTo>
                        <a:pt x="1596" y="4776"/>
                      </a:lnTo>
                      <a:lnTo>
                        <a:pt x="1512" y="4813"/>
                      </a:lnTo>
                      <a:lnTo>
                        <a:pt x="1428" y="4813"/>
                      </a:lnTo>
                      <a:lnTo>
                        <a:pt x="1344" y="4850"/>
                      </a:lnTo>
                      <a:lnTo>
                        <a:pt x="1260" y="4888"/>
                      </a:lnTo>
                      <a:lnTo>
                        <a:pt x="1176" y="4888"/>
                      </a:lnTo>
                      <a:lnTo>
                        <a:pt x="1092" y="4925"/>
                      </a:lnTo>
                      <a:lnTo>
                        <a:pt x="1008" y="4925"/>
                      </a:lnTo>
                      <a:lnTo>
                        <a:pt x="924" y="4925"/>
                      </a:lnTo>
                      <a:lnTo>
                        <a:pt x="672" y="4925"/>
                      </a:lnTo>
                      <a:lnTo>
                        <a:pt x="588" y="4925"/>
                      </a:lnTo>
                      <a:lnTo>
                        <a:pt x="504" y="4888"/>
                      </a:lnTo>
                      <a:lnTo>
                        <a:pt x="420" y="4850"/>
                      </a:lnTo>
                      <a:lnTo>
                        <a:pt x="336" y="4850"/>
                      </a:lnTo>
                      <a:lnTo>
                        <a:pt x="252" y="4813"/>
                      </a:lnTo>
                      <a:lnTo>
                        <a:pt x="168" y="4776"/>
                      </a:lnTo>
                      <a:lnTo>
                        <a:pt x="84" y="4738"/>
                      </a:lnTo>
                      <a:lnTo>
                        <a:pt x="84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4" y="597"/>
                      </a:lnTo>
                      <a:lnTo>
                        <a:pt x="168" y="485"/>
                      </a:lnTo>
                      <a:lnTo>
                        <a:pt x="336" y="410"/>
                      </a:lnTo>
                      <a:lnTo>
                        <a:pt x="420" y="373"/>
                      </a:lnTo>
                      <a:lnTo>
                        <a:pt x="588" y="298"/>
                      </a:lnTo>
                      <a:lnTo>
                        <a:pt x="756" y="223"/>
                      </a:lnTo>
                      <a:lnTo>
                        <a:pt x="1008" y="149"/>
                      </a:lnTo>
                      <a:lnTo>
                        <a:pt x="1176" y="111"/>
                      </a:lnTo>
                      <a:lnTo>
                        <a:pt x="1344" y="74"/>
                      </a:lnTo>
                      <a:lnTo>
                        <a:pt x="1680" y="37"/>
                      </a:lnTo>
                      <a:lnTo>
                        <a:pt x="1848" y="0"/>
                      </a:lnTo>
                      <a:lnTo>
                        <a:pt x="2100" y="0"/>
                      </a:lnTo>
                      <a:lnTo>
                        <a:pt x="23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6"/>
                <p:cNvSpPr/>
                <p:nvPr/>
              </p:nvSpPr>
              <p:spPr>
                <a:xfrm>
                  <a:off x="6216480" y="1798560"/>
                  <a:ext cx="71640" cy="72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Group 37"/>
            <p:cNvGrpSpPr/>
            <p:nvPr/>
          </p:nvGrpSpPr>
          <p:grpSpPr>
            <a:xfrm>
              <a:off x="6381720" y="1888920"/>
              <a:ext cx="666720" cy="649440"/>
              <a:chOff x="6381720" y="1888920"/>
              <a:chExt cx="666720" cy="649440"/>
            </a:xfrm>
          </p:grpSpPr>
          <p:sp>
            <p:nvSpPr>
              <p:cNvPr id="284" name="Freeform 38"/>
              <p:cNvSpPr/>
              <p:nvPr/>
            </p:nvSpPr>
            <p:spPr>
              <a:xfrm>
                <a:off x="6381720" y="1888920"/>
                <a:ext cx="666720" cy="64944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190" y="0"/>
                    </a:moveTo>
                    <a:lnTo>
                      <a:pt x="8809" y="0"/>
                    </a:lnTo>
                    <a:cubicBezTo>
                      <a:pt x="9466" y="0"/>
                      <a:pt x="10000" y="547"/>
                      <a:pt x="10000" y="1222"/>
                    </a:cubicBezTo>
                    <a:lnTo>
                      <a:pt x="10000" y="8777"/>
                    </a:lnTo>
                    <a:cubicBezTo>
                      <a:pt x="10000" y="9452"/>
                      <a:pt x="9466" y="10000"/>
                      <a:pt x="8809" y="10000"/>
                    </a:cubicBezTo>
                    <a:lnTo>
                      <a:pt x="1190" y="10000"/>
                    </a:lnTo>
                    <a:cubicBezTo>
                      <a:pt x="533" y="10000"/>
                      <a:pt x="0" y="9452"/>
                      <a:pt x="0" y="8777"/>
                    </a:cubicBezTo>
                    <a:lnTo>
                      <a:pt x="0" y="1222"/>
                    </a:lnTo>
                    <a:cubicBezTo>
                      <a:pt x="0" y="547"/>
                      <a:pt x="533" y="0"/>
                      <a:pt x="1190" y="0"/>
                    </a:cubicBezTo>
                    <a:close/>
                    <a:moveTo>
                      <a:pt x="1190" y="0"/>
                    </a:move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Group 39"/>
              <p:cNvGrpSpPr/>
              <p:nvPr/>
            </p:nvGrpSpPr>
            <p:grpSpPr>
              <a:xfrm>
                <a:off x="6618240" y="1950840"/>
                <a:ext cx="195120" cy="528480"/>
                <a:chOff x="6618240" y="1950840"/>
                <a:chExt cx="195120" cy="528480"/>
              </a:xfrm>
            </p:grpSpPr>
            <p:sp>
              <p:nvSpPr>
                <p:cNvPr id="286" name="Freeform 40"/>
                <p:cNvSpPr/>
                <p:nvPr/>
              </p:nvSpPr>
              <p:spPr>
                <a:xfrm>
                  <a:off x="6618240" y="2054160"/>
                  <a:ext cx="195120" cy="42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2333" y="0"/>
                      </a:moveTo>
                      <a:lnTo>
                        <a:pt x="7666" y="0"/>
                      </a:lnTo>
                      <a:lnTo>
                        <a:pt x="7833" y="0"/>
                      </a:lnTo>
                      <a:lnTo>
                        <a:pt x="7999" y="0"/>
                      </a:lnTo>
                      <a:lnTo>
                        <a:pt x="8083" y="0"/>
                      </a:lnTo>
                      <a:lnTo>
                        <a:pt x="8166" y="37"/>
                      </a:lnTo>
                      <a:lnTo>
                        <a:pt x="8333" y="37"/>
                      </a:lnTo>
                      <a:lnTo>
                        <a:pt x="8416" y="37"/>
                      </a:lnTo>
                      <a:lnTo>
                        <a:pt x="8583" y="74"/>
                      </a:lnTo>
                      <a:lnTo>
                        <a:pt x="8750" y="111"/>
                      </a:lnTo>
                      <a:lnTo>
                        <a:pt x="8833" y="111"/>
                      </a:lnTo>
                      <a:lnTo>
                        <a:pt x="8999" y="149"/>
                      </a:lnTo>
                      <a:lnTo>
                        <a:pt x="9166" y="186"/>
                      </a:lnTo>
                      <a:lnTo>
                        <a:pt x="9249" y="223"/>
                      </a:lnTo>
                      <a:lnTo>
                        <a:pt x="9416" y="298"/>
                      </a:lnTo>
                      <a:lnTo>
                        <a:pt x="9499" y="373"/>
                      </a:lnTo>
                      <a:lnTo>
                        <a:pt x="9583" y="410"/>
                      </a:lnTo>
                      <a:lnTo>
                        <a:pt x="9749" y="485"/>
                      </a:lnTo>
                      <a:lnTo>
                        <a:pt x="9833" y="559"/>
                      </a:lnTo>
                      <a:lnTo>
                        <a:pt x="9916" y="634"/>
                      </a:lnTo>
                      <a:lnTo>
                        <a:pt x="10000" y="671"/>
                      </a:lnTo>
                      <a:lnTo>
                        <a:pt x="10000" y="746"/>
                      </a:lnTo>
                      <a:lnTo>
                        <a:pt x="10000" y="820"/>
                      </a:lnTo>
                      <a:lnTo>
                        <a:pt x="10000" y="4552"/>
                      </a:lnTo>
                      <a:lnTo>
                        <a:pt x="9916" y="4589"/>
                      </a:lnTo>
                      <a:lnTo>
                        <a:pt x="9916" y="4626"/>
                      </a:lnTo>
                      <a:lnTo>
                        <a:pt x="9833" y="4701"/>
                      </a:lnTo>
                      <a:lnTo>
                        <a:pt x="9833" y="4738"/>
                      </a:lnTo>
                      <a:lnTo>
                        <a:pt x="9749" y="4776"/>
                      </a:lnTo>
                      <a:lnTo>
                        <a:pt x="9666" y="4813"/>
                      </a:lnTo>
                      <a:lnTo>
                        <a:pt x="9499" y="4850"/>
                      </a:lnTo>
                      <a:lnTo>
                        <a:pt x="9416" y="4888"/>
                      </a:lnTo>
                      <a:lnTo>
                        <a:pt x="9333" y="4925"/>
                      </a:lnTo>
                      <a:lnTo>
                        <a:pt x="9249" y="4925"/>
                      </a:lnTo>
                      <a:lnTo>
                        <a:pt x="9083" y="4925"/>
                      </a:lnTo>
                      <a:lnTo>
                        <a:pt x="8999" y="4925"/>
                      </a:lnTo>
                      <a:lnTo>
                        <a:pt x="8833" y="4925"/>
                      </a:lnTo>
                      <a:lnTo>
                        <a:pt x="8750" y="4888"/>
                      </a:lnTo>
                      <a:lnTo>
                        <a:pt x="8583" y="4888"/>
                      </a:lnTo>
                      <a:lnTo>
                        <a:pt x="8499" y="4850"/>
                      </a:lnTo>
                      <a:lnTo>
                        <a:pt x="8416" y="4813"/>
                      </a:lnTo>
                      <a:lnTo>
                        <a:pt x="8333" y="4776"/>
                      </a:lnTo>
                      <a:lnTo>
                        <a:pt x="8333" y="4738"/>
                      </a:lnTo>
                      <a:lnTo>
                        <a:pt x="8249" y="4701"/>
                      </a:lnTo>
                      <a:lnTo>
                        <a:pt x="8249" y="4664"/>
                      </a:lnTo>
                      <a:lnTo>
                        <a:pt x="8249" y="4626"/>
                      </a:lnTo>
                      <a:lnTo>
                        <a:pt x="8166" y="4589"/>
                      </a:lnTo>
                      <a:lnTo>
                        <a:pt x="8166" y="4552"/>
                      </a:lnTo>
                      <a:lnTo>
                        <a:pt x="8166" y="1716"/>
                      </a:lnTo>
                      <a:lnTo>
                        <a:pt x="7666" y="1716"/>
                      </a:lnTo>
                      <a:lnTo>
                        <a:pt x="7666" y="9440"/>
                      </a:lnTo>
                      <a:lnTo>
                        <a:pt x="7666" y="9514"/>
                      </a:lnTo>
                      <a:lnTo>
                        <a:pt x="7583" y="9589"/>
                      </a:lnTo>
                      <a:lnTo>
                        <a:pt x="7416" y="9701"/>
                      </a:lnTo>
                      <a:lnTo>
                        <a:pt x="7333" y="9776"/>
                      </a:lnTo>
                      <a:lnTo>
                        <a:pt x="7249" y="9813"/>
                      </a:lnTo>
                      <a:lnTo>
                        <a:pt x="7166" y="9888"/>
                      </a:lnTo>
                      <a:lnTo>
                        <a:pt x="6999" y="9925"/>
                      </a:lnTo>
                      <a:lnTo>
                        <a:pt x="6916" y="9962"/>
                      </a:lnTo>
                      <a:lnTo>
                        <a:pt x="6833" y="10000"/>
                      </a:lnTo>
                      <a:lnTo>
                        <a:pt x="6666" y="10000"/>
                      </a:lnTo>
                      <a:lnTo>
                        <a:pt x="6583" y="10000"/>
                      </a:lnTo>
                      <a:lnTo>
                        <a:pt x="6416" y="10000"/>
                      </a:lnTo>
                      <a:lnTo>
                        <a:pt x="6333" y="10000"/>
                      </a:lnTo>
                      <a:lnTo>
                        <a:pt x="6166" y="10000"/>
                      </a:lnTo>
                      <a:lnTo>
                        <a:pt x="5916" y="10000"/>
                      </a:lnTo>
                      <a:lnTo>
                        <a:pt x="5833" y="9962"/>
                      </a:lnTo>
                      <a:lnTo>
                        <a:pt x="5666" y="9925"/>
                      </a:lnTo>
                      <a:lnTo>
                        <a:pt x="5666" y="9888"/>
                      </a:lnTo>
                      <a:lnTo>
                        <a:pt x="5583" y="9850"/>
                      </a:lnTo>
                      <a:lnTo>
                        <a:pt x="5416" y="9776"/>
                      </a:lnTo>
                      <a:lnTo>
                        <a:pt x="5333" y="9701"/>
                      </a:lnTo>
                      <a:lnTo>
                        <a:pt x="5333" y="9664"/>
                      </a:lnTo>
                      <a:lnTo>
                        <a:pt x="5249" y="9626"/>
                      </a:lnTo>
                      <a:lnTo>
                        <a:pt x="5249" y="9552"/>
                      </a:lnTo>
                      <a:lnTo>
                        <a:pt x="5249" y="9514"/>
                      </a:lnTo>
                      <a:lnTo>
                        <a:pt x="5249" y="4813"/>
                      </a:lnTo>
                      <a:lnTo>
                        <a:pt x="4583" y="4813"/>
                      </a:lnTo>
                      <a:lnTo>
                        <a:pt x="4583" y="9477"/>
                      </a:lnTo>
                      <a:lnTo>
                        <a:pt x="4583" y="9552"/>
                      </a:lnTo>
                      <a:lnTo>
                        <a:pt x="4583" y="9626"/>
                      </a:lnTo>
                      <a:lnTo>
                        <a:pt x="4499" y="9701"/>
                      </a:lnTo>
                      <a:lnTo>
                        <a:pt x="4416" y="9776"/>
                      </a:lnTo>
                      <a:lnTo>
                        <a:pt x="4333" y="9850"/>
                      </a:lnTo>
                      <a:lnTo>
                        <a:pt x="4250" y="9888"/>
                      </a:lnTo>
                      <a:lnTo>
                        <a:pt x="4083" y="9925"/>
                      </a:lnTo>
                      <a:lnTo>
                        <a:pt x="3916" y="9962"/>
                      </a:lnTo>
                      <a:lnTo>
                        <a:pt x="3750" y="10000"/>
                      </a:lnTo>
                      <a:lnTo>
                        <a:pt x="3499" y="10000"/>
                      </a:lnTo>
                      <a:lnTo>
                        <a:pt x="3333" y="10000"/>
                      </a:lnTo>
                      <a:lnTo>
                        <a:pt x="3166" y="10000"/>
                      </a:lnTo>
                      <a:lnTo>
                        <a:pt x="3000" y="9962"/>
                      </a:lnTo>
                      <a:lnTo>
                        <a:pt x="2916" y="9925"/>
                      </a:lnTo>
                      <a:lnTo>
                        <a:pt x="2749" y="9888"/>
                      </a:lnTo>
                      <a:lnTo>
                        <a:pt x="2583" y="9850"/>
                      </a:lnTo>
                      <a:lnTo>
                        <a:pt x="2583" y="9813"/>
                      </a:lnTo>
                      <a:lnTo>
                        <a:pt x="2416" y="9738"/>
                      </a:lnTo>
                      <a:lnTo>
                        <a:pt x="2333" y="9701"/>
                      </a:lnTo>
                      <a:lnTo>
                        <a:pt x="2333" y="9626"/>
                      </a:lnTo>
                      <a:lnTo>
                        <a:pt x="2333" y="9589"/>
                      </a:lnTo>
                      <a:lnTo>
                        <a:pt x="2250" y="9477"/>
                      </a:lnTo>
                      <a:lnTo>
                        <a:pt x="2250" y="1716"/>
                      </a:lnTo>
                      <a:lnTo>
                        <a:pt x="1750" y="1716"/>
                      </a:lnTo>
                      <a:lnTo>
                        <a:pt x="1750" y="4552"/>
                      </a:lnTo>
                      <a:lnTo>
                        <a:pt x="1750" y="4589"/>
                      </a:lnTo>
                      <a:lnTo>
                        <a:pt x="1666" y="4664"/>
                      </a:lnTo>
                      <a:lnTo>
                        <a:pt x="1666" y="4701"/>
                      </a:lnTo>
                      <a:lnTo>
                        <a:pt x="1583" y="4738"/>
                      </a:lnTo>
                      <a:lnTo>
                        <a:pt x="1583" y="4776"/>
                      </a:lnTo>
                      <a:lnTo>
                        <a:pt x="1499" y="4813"/>
                      </a:lnTo>
                      <a:lnTo>
                        <a:pt x="1416" y="4813"/>
                      </a:lnTo>
                      <a:lnTo>
                        <a:pt x="1333" y="4850"/>
                      </a:lnTo>
                      <a:lnTo>
                        <a:pt x="1250" y="4888"/>
                      </a:lnTo>
                      <a:lnTo>
                        <a:pt x="1166" y="4888"/>
                      </a:lnTo>
                      <a:lnTo>
                        <a:pt x="1083" y="4925"/>
                      </a:lnTo>
                      <a:lnTo>
                        <a:pt x="1000" y="4925"/>
                      </a:lnTo>
                      <a:lnTo>
                        <a:pt x="916" y="4925"/>
                      </a:lnTo>
                      <a:lnTo>
                        <a:pt x="666" y="4925"/>
                      </a:lnTo>
                      <a:lnTo>
                        <a:pt x="500" y="4888"/>
                      </a:lnTo>
                      <a:lnTo>
                        <a:pt x="416" y="4850"/>
                      </a:lnTo>
                      <a:lnTo>
                        <a:pt x="333" y="4850"/>
                      </a:lnTo>
                      <a:lnTo>
                        <a:pt x="250" y="4813"/>
                      </a:lnTo>
                      <a:lnTo>
                        <a:pt x="166" y="4776"/>
                      </a:lnTo>
                      <a:lnTo>
                        <a:pt x="83" y="4738"/>
                      </a:lnTo>
                      <a:lnTo>
                        <a:pt x="83" y="4701"/>
                      </a:lnTo>
                      <a:lnTo>
                        <a:pt x="0" y="4626"/>
                      </a:lnTo>
                      <a:lnTo>
                        <a:pt x="0" y="4589"/>
                      </a:lnTo>
                      <a:lnTo>
                        <a:pt x="0" y="4552"/>
                      </a:lnTo>
                      <a:lnTo>
                        <a:pt x="0" y="783"/>
                      </a:lnTo>
                      <a:lnTo>
                        <a:pt x="0" y="671"/>
                      </a:lnTo>
                      <a:lnTo>
                        <a:pt x="83" y="597"/>
                      </a:lnTo>
                      <a:lnTo>
                        <a:pt x="166" y="485"/>
                      </a:lnTo>
                      <a:lnTo>
                        <a:pt x="333" y="410"/>
                      </a:lnTo>
                      <a:lnTo>
                        <a:pt x="416" y="373"/>
                      </a:lnTo>
                      <a:lnTo>
                        <a:pt x="583" y="298"/>
                      </a:lnTo>
                      <a:lnTo>
                        <a:pt x="750" y="223"/>
                      </a:lnTo>
                      <a:lnTo>
                        <a:pt x="1000" y="149"/>
                      </a:lnTo>
                      <a:lnTo>
                        <a:pt x="1166" y="111"/>
                      </a:lnTo>
                      <a:lnTo>
                        <a:pt x="1333" y="74"/>
                      </a:lnTo>
                      <a:lnTo>
                        <a:pt x="1666" y="37"/>
                      </a:lnTo>
                      <a:lnTo>
                        <a:pt x="1916" y="0"/>
                      </a:lnTo>
                      <a:lnTo>
                        <a:pt x="2083" y="0"/>
                      </a:lnTo>
                      <a:lnTo>
                        <a:pt x="233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41"/>
                <p:cNvSpPr/>
                <p:nvPr/>
              </p:nvSpPr>
              <p:spPr>
                <a:xfrm>
                  <a:off x="6673680" y="1950840"/>
                  <a:ext cx="70920" cy="7308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5000" y="0"/>
                      </a:moveTo>
                      <a:cubicBezTo>
                        <a:pt x="2238" y="0"/>
                        <a:pt x="0" y="2238"/>
                        <a:pt x="0" y="5000"/>
                      </a:cubicBezTo>
                      <a:cubicBezTo>
                        <a:pt x="0" y="7761"/>
                        <a:pt x="2238" y="10000"/>
                        <a:pt x="5000" y="10000"/>
                      </a:cubicBezTo>
                      <a:cubicBezTo>
                        <a:pt x="7761" y="10000"/>
                        <a:pt x="10000" y="7761"/>
                        <a:pt x="10000" y="5000"/>
                      </a:cubicBezTo>
                      <a:cubicBezTo>
                        <a:pt x="10000" y="2238"/>
                        <a:pt x="7761" y="0"/>
                        <a:pt x="5000" y="0"/>
                      </a:cubicBezTo>
                      <a:close/>
                      <a:moveTo>
                        <a:pt x="5000" y="0"/>
                      </a:move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8" name="Group 42"/>
            <p:cNvGrpSpPr/>
            <p:nvPr/>
          </p:nvGrpSpPr>
          <p:grpSpPr>
            <a:xfrm>
              <a:off x="4498920" y="1979640"/>
              <a:ext cx="1562040" cy="304560"/>
              <a:chOff x="4498920" y="1979640"/>
              <a:chExt cx="1562040" cy="304560"/>
            </a:xfrm>
          </p:grpSpPr>
          <p:sp>
            <p:nvSpPr>
              <p:cNvPr id="289" name="Freeform 43"/>
              <p:cNvSpPr/>
              <p:nvPr/>
            </p:nvSpPr>
            <p:spPr>
              <a:xfrm>
                <a:off x="4498920" y="1979640"/>
                <a:ext cx="1549440" cy="293400"/>
              </a:xfrm>
              <a:custGeom>
                <a:avLst/>
                <a:gdLst>
                  <a:gd name="textAreaLeft" fmla="*/ 0 w 1549440"/>
                  <a:gd name="textAreaRight" fmla="*/ 1549800 w 15494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gradFill rotWithShape="0">
                <a:gsLst>
                  <a:gs pos="0">
                    <a:srgbClr val="e2bdff"/>
                  </a:gs>
                  <a:gs pos="100000">
                    <a:srgbClr val="fd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4"/>
              <p:cNvSpPr/>
              <p:nvPr/>
            </p:nvSpPr>
            <p:spPr>
              <a:xfrm>
                <a:off x="4498920" y="1979640"/>
                <a:ext cx="1562040" cy="30456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0000"/>
                    </a:moveTo>
                    <a:lnTo>
                      <a:pt x="3662" y="0"/>
                    </a:lnTo>
                    <a:lnTo>
                      <a:pt x="10000" y="0"/>
                    </a:lnTo>
                    <a:lnTo>
                      <a:pt x="6337" y="10000"/>
                    </a:lnTo>
                    <a:lnTo>
                      <a:pt x="0" y="10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45"/>
            <p:cNvGrpSpPr/>
            <p:nvPr/>
          </p:nvGrpSpPr>
          <p:grpSpPr>
            <a:xfrm>
              <a:off x="3962520" y="1380960"/>
              <a:ext cx="1971720" cy="687240"/>
              <a:chOff x="3962520" y="1380960"/>
              <a:chExt cx="1971720" cy="687240"/>
            </a:xfrm>
          </p:grpSpPr>
          <p:sp>
            <p:nvSpPr>
              <p:cNvPr id="292" name="Freeform 46"/>
              <p:cNvSpPr/>
              <p:nvPr/>
            </p:nvSpPr>
            <p:spPr>
              <a:xfrm>
                <a:off x="3962520" y="1380960"/>
                <a:ext cx="1971720" cy="363600"/>
              </a:xfrm>
              <a:custGeom>
                <a:avLst/>
                <a:gdLst>
                  <a:gd name="textAreaLeft" fmla="*/ 0 w 1971720"/>
                  <a:gd name="textAreaRight" fmla="*/ 1971720 w 197172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47"/>
              <p:cNvSpPr/>
              <p:nvPr/>
            </p:nvSpPr>
            <p:spPr>
              <a:xfrm>
                <a:off x="4029480" y="1425600"/>
                <a:ext cx="186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present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9191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48"/>
          <p:cNvGrpSpPr/>
          <p:nvPr/>
        </p:nvGrpSpPr>
        <p:grpSpPr>
          <a:xfrm>
            <a:off x="4448160" y="3171960"/>
            <a:ext cx="2187360" cy="685440"/>
            <a:chOff x="4448160" y="3171960"/>
            <a:chExt cx="2187360" cy="685440"/>
          </a:xfrm>
        </p:grpSpPr>
        <p:grpSp>
          <p:nvGrpSpPr>
            <p:cNvPr id="295" name="Group 49"/>
            <p:cNvGrpSpPr/>
            <p:nvPr/>
          </p:nvGrpSpPr>
          <p:grpSpPr>
            <a:xfrm>
              <a:off x="4448160" y="3417840"/>
              <a:ext cx="2180520" cy="285840"/>
              <a:chOff x="4448160" y="3417840"/>
              <a:chExt cx="2180520" cy="285840"/>
            </a:xfrm>
          </p:grpSpPr>
          <p:sp>
            <p:nvSpPr>
              <p:cNvPr id="296" name="Line 50"/>
              <p:cNvSpPr/>
              <p:nvPr/>
            </p:nvSpPr>
            <p:spPr>
              <a:xfrm>
                <a:off x="4448160" y="3417840"/>
                <a:ext cx="1962000" cy="21420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51"/>
              <p:cNvSpPr/>
              <p:nvPr/>
            </p:nvSpPr>
            <p:spPr>
              <a:xfrm>
                <a:off x="6224400" y="3548160"/>
                <a:ext cx="404280" cy="15552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8137"/>
                    </a:moveTo>
                    <a:lnTo>
                      <a:pt x="989" y="0"/>
                    </a:lnTo>
                    <a:lnTo>
                      <a:pt x="0" y="10000"/>
                    </a:lnTo>
                    <a:lnTo>
                      <a:pt x="10000" y="8137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52"/>
            <p:cNvGrpSpPr/>
            <p:nvPr/>
          </p:nvGrpSpPr>
          <p:grpSpPr>
            <a:xfrm>
              <a:off x="4727160" y="3171960"/>
              <a:ext cx="1908360" cy="685440"/>
              <a:chOff x="4727160" y="3171960"/>
              <a:chExt cx="1908360" cy="685440"/>
            </a:xfrm>
          </p:grpSpPr>
          <p:sp>
            <p:nvSpPr>
              <p:cNvPr id="299" name="Freeform 53"/>
              <p:cNvSpPr/>
              <p:nvPr/>
            </p:nvSpPr>
            <p:spPr>
              <a:xfrm>
                <a:off x="4727160" y="317196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4800600" y="3214800"/>
                <a:ext cx="179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Arial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Group 55"/>
          <p:cNvGrpSpPr/>
          <p:nvPr/>
        </p:nvGrpSpPr>
        <p:grpSpPr>
          <a:xfrm>
            <a:off x="4110120" y="4143240"/>
            <a:ext cx="1064880" cy="1042920"/>
            <a:chOff x="4110120" y="4143240"/>
            <a:chExt cx="1064880" cy="1042920"/>
          </a:xfrm>
        </p:grpSpPr>
        <p:grpSp>
          <p:nvGrpSpPr>
            <p:cNvPr id="302" name="Group 56"/>
            <p:cNvGrpSpPr/>
            <p:nvPr/>
          </p:nvGrpSpPr>
          <p:grpSpPr>
            <a:xfrm>
              <a:off x="4110120" y="4143240"/>
              <a:ext cx="626760" cy="1042920"/>
              <a:chOff x="4110120" y="4143240"/>
              <a:chExt cx="626760" cy="1042920"/>
            </a:xfrm>
          </p:grpSpPr>
          <p:sp>
            <p:nvSpPr>
              <p:cNvPr id="303" name="Line 57"/>
              <p:cNvSpPr/>
              <p:nvPr/>
            </p:nvSpPr>
            <p:spPr>
              <a:xfrm>
                <a:off x="4110120" y="4143240"/>
                <a:ext cx="412560" cy="690480"/>
              </a:xfrm>
              <a:prstGeom prst="line">
                <a:avLst/>
              </a:prstGeom>
              <a:ln w="50760">
                <a:solidFill>
                  <a:srgbClr val="12b6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58"/>
              <p:cNvSpPr/>
              <p:nvPr/>
            </p:nvSpPr>
            <p:spPr>
              <a:xfrm>
                <a:off x="4360680" y="4608360"/>
                <a:ext cx="376200" cy="577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10000" y="10000"/>
                    </a:moveTo>
                    <a:lnTo>
                      <a:pt x="5063" y="0"/>
                    </a:lnTo>
                    <a:lnTo>
                      <a:pt x="0" y="3965"/>
                    </a:lnTo>
                    <a:lnTo>
                      <a:pt x="10000" y="10000"/>
                    </a:lnTo>
                  </a:path>
                </a:pathLst>
              </a:custGeom>
              <a:solidFill>
                <a:srgbClr val="12b63d"/>
              </a:solidFill>
              <a:ln w="9360">
                <a:solidFill>
                  <a:srgbClr val="12b6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59"/>
            <p:cNvGrpSpPr/>
            <p:nvPr/>
          </p:nvGrpSpPr>
          <p:grpSpPr>
            <a:xfrm>
              <a:off x="4282920" y="4352760"/>
              <a:ext cx="892080" cy="687240"/>
              <a:chOff x="4282920" y="4352760"/>
              <a:chExt cx="892080" cy="687240"/>
            </a:xfrm>
          </p:grpSpPr>
          <p:sp>
            <p:nvSpPr>
              <p:cNvPr id="306" name="Freeform 60"/>
              <p:cNvSpPr/>
              <p:nvPr/>
            </p:nvSpPr>
            <p:spPr>
              <a:xfrm>
                <a:off x="4282920" y="4352760"/>
                <a:ext cx="892080" cy="363600"/>
              </a:xfrm>
              <a:custGeom>
                <a:avLst/>
                <a:gdLst>
                  <a:gd name="textAreaLeft" fmla="*/ 0 w 892080"/>
                  <a:gd name="textAreaRight" fmla="*/ 892440 w 8920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61"/>
              <p:cNvSpPr/>
              <p:nvPr/>
            </p:nvSpPr>
            <p:spPr>
              <a:xfrm>
                <a:off x="4320000" y="4397400"/>
                <a:ext cx="84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2b63d"/>
                    </a:solidFill>
                    <a:latin typeface="Arial"/>
                  </a:rPr>
                  <a:t>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Group 62"/>
          <p:cNvGrpSpPr/>
          <p:nvPr/>
        </p:nvGrpSpPr>
        <p:grpSpPr>
          <a:xfrm>
            <a:off x="2959200" y="4124160"/>
            <a:ext cx="1628280" cy="1210680"/>
            <a:chOff x="2959200" y="4124160"/>
            <a:chExt cx="1628280" cy="1210680"/>
          </a:xfrm>
        </p:grpSpPr>
        <p:grpSp>
          <p:nvGrpSpPr>
            <p:cNvPr id="309" name="Group 63"/>
            <p:cNvGrpSpPr/>
            <p:nvPr/>
          </p:nvGrpSpPr>
          <p:grpSpPr>
            <a:xfrm>
              <a:off x="3749760" y="4124160"/>
              <a:ext cx="837720" cy="1143000"/>
              <a:chOff x="3749760" y="4124160"/>
              <a:chExt cx="837720" cy="1143000"/>
            </a:xfrm>
          </p:grpSpPr>
          <p:sp>
            <p:nvSpPr>
              <p:cNvPr id="310" name="Line 64"/>
              <p:cNvSpPr/>
              <p:nvPr/>
            </p:nvSpPr>
            <p:spPr>
              <a:xfrm>
                <a:off x="4041720" y="4514760"/>
                <a:ext cx="545760" cy="75240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65"/>
              <p:cNvSpPr/>
              <p:nvPr/>
            </p:nvSpPr>
            <p:spPr>
              <a:xfrm>
                <a:off x="3749760" y="4124160"/>
                <a:ext cx="472680" cy="6015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601560"/>
                  <a:gd name="textAreaBottom" fmla="*/ 601560 h 6015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4904" y="10000"/>
                    </a:lnTo>
                    <a:lnTo>
                      <a:pt x="10000" y="59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66"/>
            <p:cNvGrpSpPr/>
            <p:nvPr/>
          </p:nvGrpSpPr>
          <p:grpSpPr>
            <a:xfrm>
              <a:off x="2959200" y="4647960"/>
              <a:ext cx="1361880" cy="686880"/>
              <a:chOff x="2959200" y="4647960"/>
              <a:chExt cx="1361880" cy="686880"/>
            </a:xfrm>
          </p:grpSpPr>
          <p:sp>
            <p:nvSpPr>
              <p:cNvPr id="313" name="Freeform 67"/>
              <p:cNvSpPr/>
              <p:nvPr/>
            </p:nvSpPr>
            <p:spPr>
              <a:xfrm>
                <a:off x="2959200" y="4647960"/>
                <a:ext cx="1361880" cy="36360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68"/>
              <p:cNvSpPr/>
              <p:nvPr/>
            </p:nvSpPr>
            <p:spPr>
              <a:xfrm>
                <a:off x="3006360" y="4692240"/>
                <a:ext cx="1297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Arial"/>
                  </a:rPr>
                  <a:t>Perce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69"/>
          <p:cNvGrpSpPr/>
          <p:nvPr/>
        </p:nvGrpSpPr>
        <p:grpSpPr>
          <a:xfrm>
            <a:off x="4359240" y="3591000"/>
            <a:ext cx="2060640" cy="915480"/>
            <a:chOff x="4359240" y="3591000"/>
            <a:chExt cx="2060640" cy="915480"/>
          </a:xfrm>
        </p:grpSpPr>
        <p:grpSp>
          <p:nvGrpSpPr>
            <p:cNvPr id="316" name="Group 70"/>
            <p:cNvGrpSpPr/>
            <p:nvPr/>
          </p:nvGrpSpPr>
          <p:grpSpPr>
            <a:xfrm>
              <a:off x="4359240" y="3591000"/>
              <a:ext cx="2055960" cy="304920"/>
              <a:chOff x="4359240" y="3591000"/>
              <a:chExt cx="2055960" cy="304920"/>
            </a:xfrm>
          </p:grpSpPr>
          <p:sp>
            <p:nvSpPr>
              <p:cNvPr id="317" name="Line 71"/>
              <p:cNvSpPr/>
              <p:nvPr/>
            </p:nvSpPr>
            <p:spPr>
              <a:xfrm>
                <a:off x="4576680" y="3672000"/>
                <a:ext cx="1838520" cy="223920"/>
              </a:xfrm>
              <a:prstGeom prst="line">
                <a:avLst/>
              </a:prstGeom>
              <a:ln w="50760">
                <a:solidFill>
                  <a:srgbClr val="2a0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72"/>
              <p:cNvSpPr/>
              <p:nvPr/>
            </p:nvSpPr>
            <p:spPr>
              <a:xfrm>
                <a:off x="4359240" y="3591000"/>
                <a:ext cx="376200" cy="157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1862"/>
                    </a:moveTo>
                    <a:lnTo>
                      <a:pt x="9010" y="10000"/>
                    </a:lnTo>
                    <a:lnTo>
                      <a:pt x="10000" y="0"/>
                    </a:lnTo>
                    <a:lnTo>
                      <a:pt x="0" y="1862"/>
                    </a:lnTo>
                  </a:path>
                </a:pathLst>
              </a:custGeom>
              <a:solidFill>
                <a:srgbClr val="2a0ef6"/>
              </a:solidFill>
              <a:ln w="9360">
                <a:solidFill>
                  <a:srgbClr val="2a0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73"/>
            <p:cNvGrpSpPr/>
            <p:nvPr/>
          </p:nvGrpSpPr>
          <p:grpSpPr>
            <a:xfrm>
              <a:off x="4511520" y="3819600"/>
              <a:ext cx="1908360" cy="686880"/>
              <a:chOff x="4511520" y="3819600"/>
              <a:chExt cx="1908360" cy="686880"/>
            </a:xfrm>
          </p:grpSpPr>
          <p:sp>
            <p:nvSpPr>
              <p:cNvPr id="320" name="Freeform 74"/>
              <p:cNvSpPr/>
              <p:nvPr/>
            </p:nvSpPr>
            <p:spPr>
              <a:xfrm>
                <a:off x="4511520" y="3819600"/>
                <a:ext cx="1908360" cy="363600"/>
              </a:xfrm>
              <a:custGeom>
                <a:avLst/>
                <a:gdLst>
                  <a:gd name="textAreaLeft" fmla="*/ 0 w 1908360"/>
                  <a:gd name="textAreaRight" fmla="*/ 1908720 w 190836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75"/>
              <p:cNvSpPr/>
              <p:nvPr/>
            </p:nvSpPr>
            <p:spPr>
              <a:xfrm>
                <a:off x="4585320" y="3863880"/>
                <a:ext cx="179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a0ef6"/>
                    </a:solidFill>
                    <a:latin typeface="Arial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7000">
                  <a:lnSpc>
                    <a:spcPts val="2160"/>
                  </a:lnSpc>
                  <a:tabLst>
                    <a:tab algn="l" pos="0"/>
                    <a:tab algn="l" pos="90360"/>
                    <a:tab algn="l" pos="1004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Text Box 76"/>
          <p:cNvSpPr/>
          <p:nvPr/>
        </p:nvSpPr>
        <p:spPr>
          <a:xfrm>
            <a:off x="7772400" y="6477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bert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Agents: autonomy, flexibility, interac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714680" y="6357960"/>
            <a:ext cx="5643360" cy="500040"/>
          </a:xfrm>
          <a:prstGeom prst="rect">
            <a:avLst/>
          </a:prstGeom>
          <a:solidFill>
            <a:srgbClr val="a5d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nchronization of fire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1714680" y="1071720"/>
            <a:ext cx="5715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Why is it interesting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804960" y="1484280"/>
            <a:ext cx="80881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structure is emergent from agent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this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agents have goals, beliefs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this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things change, develop, ev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agents move (in space and social location) and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these can be directly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6659640" y="64533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(Gilbert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s it qualitative or quantitative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804960" y="1484280"/>
            <a:ext cx="80881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t-based models can handle all typ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ntitativ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size of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ordinal or categorical (e.g. ethnicit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relational (e.g. I am linked to him and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16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eneva"/>
              </a:rPr>
              <a:t>A sends B a message about one time in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6659640" y="64533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(Gilbert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3600" y="357120"/>
            <a:ext cx="822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It has been used in different areas of scienc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733320" y="1484280"/>
            <a:ext cx="77994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a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gu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394020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-120600" y="-27000"/>
            <a:ext cx="9264600" cy="72723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1"/>
          <p:cNvSpPr/>
          <p:nvPr/>
        </p:nvSpPr>
        <p:spPr>
          <a:xfrm>
            <a:off x="539640" y="6597720"/>
            <a:ext cx="836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http://www.leggmason.com/thoughtleaderforum/2004/conference/transcripts/arthur_trans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ere does this image come from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678636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0" y="3068640"/>
            <a:ext cx="5467320" cy="3645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4425840" y="0"/>
            <a:ext cx="4718160" cy="29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4680000" y="3500280"/>
            <a:ext cx="4476600" cy="2979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4179960" cy="2924280"/>
          </a:xfrm>
          <a:prstGeom prst="rect">
            <a:avLst/>
          </a:prstGeom>
          <a:ln w="0">
            <a:noFill/>
          </a:ln>
        </p:spPr>
      </p:pic>
      <p:sp>
        <p:nvSpPr>
          <p:cNvPr id="341" name="CaixaDeTexto 5"/>
          <p:cNvSpPr/>
          <p:nvPr/>
        </p:nvSpPr>
        <p:spPr>
          <a:xfrm>
            <a:off x="1763640" y="2708280"/>
            <a:ext cx="6500880" cy="5814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e"/>
                </a:solidFill>
                <a:latin typeface="Calibri"/>
                <a:ea typeface="Calibri"/>
              </a:rPr>
              <a:t>Agents</a:t>
            </a:r>
            <a:r>
              <a:rPr b="0" lang="en-US" sz="3200" spc="-1" strike="noStrike">
                <a:solidFill>
                  <a:srgbClr val="00005e"/>
                </a:solidFill>
                <a:latin typeface="Calibri"/>
                <a:ea typeface="Calibri"/>
              </a:rPr>
              <a:t> changing the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f"/>
                </a:solidFill>
                <a:latin typeface="Calibri"/>
                <a:ea typeface="Calibri"/>
              </a:rPr>
              <a:t>An individual, household, or institution that takes specific actions according to its own decision rules which drive land-cover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215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Four types of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44" name="Picture 9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500280" cy="21924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785880" y="3857760"/>
            <a:ext cx="3429000" cy="2071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"/>
          <p:cNvPicPr/>
          <p:nvPr/>
        </p:nvPicPr>
        <p:blipFill>
          <a:blip r:embed="rId3"/>
          <a:stretch/>
        </p:blipFill>
        <p:spPr>
          <a:xfrm>
            <a:off x="4929120" y="3786120"/>
            <a:ext cx="3500640" cy="2133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4"/>
          <a:stretch/>
        </p:blipFill>
        <p:spPr>
          <a:xfrm>
            <a:off x="714240" y="1071720"/>
            <a:ext cx="3500640" cy="2286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7"/>
          <p:cNvSpPr/>
          <p:nvPr/>
        </p:nvSpPr>
        <p:spPr>
          <a:xfrm>
            <a:off x="648000" y="6000840"/>
            <a:ext cx="365688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49440" y="3357720"/>
            <a:ext cx="373176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4857840" y="3286080"/>
            <a:ext cx="365760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932000" y="6000840"/>
            <a:ext cx="360072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429240" y="6519960"/>
            <a:ext cx="2714760" cy="337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fonte: Helen Couclelis (UC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215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Four types of agent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54" name="Picture 9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500280" cy="2192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"/>
          <p:cNvPicPr/>
          <p:nvPr/>
        </p:nvPicPr>
        <p:blipFill>
          <a:blip r:embed="rId2"/>
          <a:stretch/>
        </p:blipFill>
        <p:spPr>
          <a:xfrm>
            <a:off x="785880" y="3857760"/>
            <a:ext cx="3429000" cy="2071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5" descr=""/>
          <p:cNvPicPr/>
          <p:nvPr/>
        </p:nvPicPr>
        <p:blipFill>
          <a:blip r:embed="rId3"/>
          <a:stretch/>
        </p:blipFill>
        <p:spPr>
          <a:xfrm>
            <a:off x="4929120" y="3786120"/>
            <a:ext cx="3500640" cy="2133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4"/>
          <a:stretch/>
        </p:blipFill>
        <p:spPr>
          <a:xfrm>
            <a:off x="714240" y="1071720"/>
            <a:ext cx="350064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7"/>
          <p:cNvSpPr/>
          <p:nvPr/>
        </p:nvSpPr>
        <p:spPr>
          <a:xfrm>
            <a:off x="648000" y="6000840"/>
            <a:ext cx="365688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649440" y="3357720"/>
            <a:ext cx="373176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artifici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4857840" y="3286080"/>
            <a:ext cx="365760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Artifici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932000" y="6000840"/>
            <a:ext cx="3600720" cy="3682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Calibri"/>
                <a:ea typeface="Arial"/>
              </a:rPr>
              <a:t>Natural Agents, natur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6429240" y="6519960"/>
            <a:ext cx="2714760" cy="337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fonte: Helen Couclelis (UC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555200" y="1125360"/>
            <a:ext cx="114552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-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5148360" y="1052640"/>
            <a:ext cx="295272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ngineer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1411200" y="3860640"/>
            <a:ext cx="1469880" cy="7038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364000" y="3933720"/>
            <a:ext cx="2880000" cy="3988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f"/>
                </a:solidFill>
                <a:latin typeface="Calibri"/>
                <a:ea typeface="Calibri"/>
              </a:rPr>
              <a:t>Descriptiv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s computer science universal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8" name="CaixaDeTexto 4"/>
          <p:cNvSpPr/>
          <p:nvPr/>
        </p:nvSpPr>
        <p:spPr>
          <a:xfrm>
            <a:off x="571680" y="5786280"/>
            <a:ext cx="8358120" cy="459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Modelling information flows in nature is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separation diagram"/>
          <p:cNvPicPr/>
          <p:nvPr/>
        </p:nvPicPr>
        <p:blipFill>
          <a:blip r:embed="rId1"/>
          <a:stretch/>
        </p:blipFill>
        <p:spPr>
          <a:xfrm>
            <a:off x="5357880" y="1214280"/>
            <a:ext cx="2066760" cy="1381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alignment diagram"/>
          <p:cNvPicPr/>
          <p:nvPr/>
        </p:nvPicPr>
        <p:blipFill>
          <a:blip r:embed="rId2"/>
          <a:stretch/>
        </p:blipFill>
        <p:spPr>
          <a:xfrm>
            <a:off x="6000840" y="271476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cohesion diagram"/>
          <p:cNvPicPr/>
          <p:nvPr/>
        </p:nvPicPr>
        <p:blipFill>
          <a:blip r:embed="rId3"/>
          <a:stretch/>
        </p:blipFill>
        <p:spPr>
          <a:xfrm>
            <a:off x="6643800" y="4214880"/>
            <a:ext cx="2066760" cy="1380960"/>
          </a:xfrm>
          <a:prstGeom prst="rect">
            <a:avLst/>
          </a:prstGeom>
          <a:ln w="0">
            <a:noFill/>
          </a:ln>
        </p:spPr>
      </p:pic>
      <p:sp>
        <p:nvSpPr>
          <p:cNvPr id="372" name="Retângulo 10"/>
          <p:cNvSpPr/>
          <p:nvPr/>
        </p:nvSpPr>
        <p:spPr>
          <a:xfrm>
            <a:off x="6041520" y="6519960"/>
            <a:ext cx="3089880" cy="3373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http://www.red3d.com/cwr/boi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4"/>
          <a:stretch/>
        </p:blipFill>
        <p:spPr>
          <a:xfrm>
            <a:off x="428760" y="1214280"/>
            <a:ext cx="48574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</a:rPr>
              <a:t>Bird Flocking (Reynolds)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0920" y="4292280"/>
            <a:ext cx="4857480" cy="214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Example of a computational model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No central autority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Each bird reacts to its neighbor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</a:rPr>
              <a:t>Model based on bottom up interaction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376" name="Picture 6" descr="Swarm"/>
          <p:cNvPicPr/>
          <p:nvPr/>
        </p:nvPicPr>
        <p:blipFill>
          <a:blip r:embed="rId1"/>
          <a:stretch/>
        </p:blipFill>
        <p:spPr>
          <a:xfrm>
            <a:off x="5626080" y="4005360"/>
            <a:ext cx="3517920" cy="2539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T-G0001 Blurred Flock of birds"/>
          <p:cNvPicPr/>
          <p:nvPr/>
        </p:nvPicPr>
        <p:blipFill>
          <a:blip r:embed="rId2"/>
          <a:stretch/>
        </p:blipFill>
        <p:spPr>
          <a:xfrm>
            <a:off x="5146560" y="1125360"/>
            <a:ext cx="3997440" cy="274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fig93s"/>
          <p:cNvPicPr/>
          <p:nvPr/>
        </p:nvPicPr>
        <p:blipFill>
          <a:blip r:embed="rId3"/>
          <a:stretch/>
        </p:blipFill>
        <p:spPr>
          <a:xfrm>
            <a:off x="611280" y="1125360"/>
            <a:ext cx="4149720" cy="2918160"/>
          </a:xfrm>
          <a:prstGeom prst="rect">
            <a:avLst/>
          </a:prstGeom>
          <a:ln w="0">
            <a:noFill/>
          </a:ln>
        </p:spPr>
      </p:pic>
      <p:sp>
        <p:nvSpPr>
          <p:cNvPr id="379" name="Retângulo 6"/>
          <p:cNvSpPr/>
          <p:nvPr/>
        </p:nvSpPr>
        <p:spPr>
          <a:xfrm>
            <a:off x="6041520" y="651996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5e"/>
                </a:solidFill>
                <a:latin typeface="Calibri"/>
                <a:ea typeface="Arial"/>
              </a:rPr>
              <a:t>http://www.red3d.com/cwr/boi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Bird Flocking: 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Reynolds Model (1987) 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81" name="Picture 5" descr="separation"/>
          <p:cNvPicPr/>
          <p:nvPr/>
        </p:nvPicPr>
        <p:blipFill>
          <a:blip r:embed="rId1"/>
          <a:stretch/>
        </p:blipFill>
        <p:spPr>
          <a:xfrm>
            <a:off x="838080" y="342900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ohesion"/>
          <p:cNvPicPr/>
          <p:nvPr/>
        </p:nvPicPr>
        <p:blipFill>
          <a:blip r:embed="rId2"/>
          <a:stretch/>
        </p:blipFill>
        <p:spPr>
          <a:xfrm>
            <a:off x="838080" y="1828800"/>
            <a:ext cx="2340000" cy="1563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alignment"/>
          <p:cNvPicPr/>
          <p:nvPr/>
        </p:nvPicPr>
        <p:blipFill>
          <a:blip r:embed="rId3"/>
          <a:stretch/>
        </p:blipFill>
        <p:spPr>
          <a:xfrm>
            <a:off x="838080" y="5029200"/>
            <a:ext cx="2371680" cy="1584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8"/>
          <p:cNvSpPr/>
          <p:nvPr/>
        </p:nvSpPr>
        <p:spPr>
          <a:xfrm>
            <a:off x="914400" y="6553080"/>
            <a:ext cx="30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d3d.com/cwr/boid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aixaDeTexto 7"/>
          <p:cNvSpPr/>
          <p:nvPr/>
        </p:nvSpPr>
        <p:spPr>
          <a:xfrm>
            <a:off x="3571920" y="1928880"/>
            <a:ext cx="5357880" cy="4483080"/>
          </a:xfrm>
          <a:prstGeom prst="rect">
            <a:avLst/>
          </a:prstGeom>
          <a:solidFill>
            <a:srgbClr val="a5d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mnst777 BT"/>
              </a:rPr>
              <a:t>Cohesion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: steer to move toward the average position of local flock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mnst777 BT"/>
              </a:rPr>
              <a:t>Separation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: steer to avoid crowding local flock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mnst777 BT"/>
              </a:rPr>
              <a:t>Alignment</a:t>
            </a:r>
            <a:r>
              <a:rPr b="0" lang="en-US" sz="2400" spc="-1" strike="noStrike">
                <a:solidFill>
                  <a:srgbClr val="000000"/>
                </a:solidFill>
                <a:latin typeface="Humnst777 BT"/>
              </a:rPr>
              <a:t>: steer towards the average heading of local flock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</a:rPr>
              <a:t>Agents mov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108080" y="1434960"/>
            <a:ext cx="69278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1090440" y="1450800"/>
            <a:ext cx="6963120" cy="51786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</a:rPr>
              <a:t>Agents mov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081080" y="1434960"/>
            <a:ext cx="6981840" cy="5194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</a:rPr>
              <a:t>Agents moving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4952880" y="2743200"/>
            <a:ext cx="1828800" cy="167652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9329" y="18633"/>
                </a:moveTo>
                <a:cubicBezTo>
                  <a:pt x="9814" y="18724"/>
                  <a:pt x="10306" y="18770"/>
                  <a:pt x="10800" y="18770"/>
                </a:cubicBezTo>
                <a:cubicBezTo>
                  <a:pt x="15201" y="18770"/>
                  <a:pt x="18770" y="15201"/>
                  <a:pt x="18770" y="10800"/>
                </a:cubicBezTo>
                <a:cubicBezTo>
                  <a:pt x="18770" y="6398"/>
                  <a:pt x="15201" y="2830"/>
                  <a:pt x="10800" y="2830"/>
                </a:cubicBezTo>
                <a:cubicBezTo>
                  <a:pt x="10622" y="2829"/>
                  <a:pt x="10445" y="2835"/>
                  <a:pt x="10268" y="2847"/>
                </a:cubicBezTo>
                <a:lnTo>
                  <a:pt x="10079" y="24"/>
                </a:lnTo>
                <a:cubicBezTo>
                  <a:pt x="10319" y="8"/>
                  <a:pt x="1055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10131" y="21600"/>
                  <a:pt x="9464" y="21537"/>
                  <a:pt x="8806" y="21414"/>
                </a:cubicBezTo>
                <a:lnTo>
                  <a:pt x="8308" y="24068"/>
                </a:lnTo>
                <a:lnTo>
                  <a:pt x="5024" y="19264"/>
                </a:lnTo>
                <a:lnTo>
                  <a:pt x="9827" y="15979"/>
                </a:lnTo>
                <a:lnTo>
                  <a:pt x="9329" y="1863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03280" y="1700280"/>
            <a:ext cx="590868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chelling segregation model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Where does this image come from?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6786360" cy="5367600"/>
          </a:xfrm>
          <a:prstGeom prst="rect">
            <a:avLst/>
          </a:prstGeom>
          <a:ln w="0">
            <a:noFill/>
          </a:ln>
        </p:spPr>
      </p:pic>
      <p:sp>
        <p:nvSpPr>
          <p:cNvPr id="213" name="CaixaDeTexto 3"/>
          <p:cNvSpPr/>
          <p:nvPr/>
        </p:nvSpPr>
        <p:spPr>
          <a:xfrm>
            <a:off x="2768400" y="5786280"/>
            <a:ext cx="3707280" cy="8254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Map of the web (Barabas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(could be brain conne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245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7" name="CaixaDeTexto 4"/>
          <p:cNvSpPr/>
          <p:nvPr/>
        </p:nvSpPr>
        <p:spPr>
          <a:xfrm>
            <a:off x="911520" y="5143680"/>
            <a:ext cx="7246440" cy="180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Some studies show that most people pre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to live in a non-segregated socie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Why there is so much segre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3573360" y="1484280"/>
            <a:ext cx="5570640" cy="3786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549360" y="1484280"/>
            <a:ext cx="41907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07580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Segregation is an outcome of individual choice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But high levels of segregation indicate mean that people are prejudiced?</a:t>
            </a: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402" name="Picture 9" descr="plessy"/>
          <p:cNvPicPr/>
          <p:nvPr/>
        </p:nvPicPr>
        <p:blipFill>
          <a:blip r:embed="rId1"/>
          <a:stretch/>
        </p:blipFill>
        <p:spPr>
          <a:xfrm>
            <a:off x="5410080" y="373392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4"/>
          <p:cNvSpPr/>
          <p:nvPr/>
        </p:nvSpPr>
        <p:spPr>
          <a:xfrm>
            <a:off x="3724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37004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3753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7670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zonderman_fig02b"/>
          <p:cNvPicPr/>
          <p:nvPr/>
        </p:nvPicPr>
        <p:blipFill>
          <a:blip r:embed="rId2"/>
          <a:stretch/>
        </p:blipFill>
        <p:spPr>
          <a:xfrm>
            <a:off x="1523880" y="2590920"/>
            <a:ext cx="3313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 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chelling</a:t>
            </a:r>
            <a:r>
              <a:rPr b="1" lang="ja-JP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’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 Model of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724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3753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37670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Dime"/>
          <p:cNvPicPr/>
          <p:nvPr/>
        </p:nvPicPr>
        <p:blipFill>
          <a:blip r:embed="rId1"/>
          <a:stretch/>
        </p:blipFill>
        <p:spPr>
          <a:xfrm>
            <a:off x="2416320" y="5064120"/>
            <a:ext cx="409320" cy="39996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9"/>
          <p:cNvGrpSpPr/>
          <p:nvPr/>
        </p:nvGrpSpPr>
        <p:grpSpPr>
          <a:xfrm>
            <a:off x="2347920" y="4495680"/>
            <a:ext cx="1676520" cy="1523880"/>
            <a:chOff x="2347920" y="4495680"/>
            <a:chExt cx="1676520" cy="1523880"/>
          </a:xfrm>
        </p:grpSpPr>
        <p:pic>
          <p:nvPicPr>
            <p:cNvPr id="414" name="Picture 10" descr="Penny"/>
            <p:cNvPicPr/>
            <p:nvPr/>
          </p:nvPicPr>
          <p:blipFill>
            <a:blip r:embed="rId2"/>
            <a:stretch/>
          </p:blipFill>
          <p:spPr>
            <a:xfrm>
              <a:off x="3490920" y="5062320"/>
              <a:ext cx="4237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Rectangle 11"/>
            <p:cNvSpPr/>
            <p:nvPr/>
          </p:nvSpPr>
          <p:spPr>
            <a:xfrm>
              <a:off x="2881440" y="449568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2"/>
            <p:cNvSpPr/>
            <p:nvPr/>
          </p:nvSpPr>
          <p:spPr>
            <a:xfrm>
              <a:off x="2347920" y="502884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3"/>
            <p:cNvSpPr/>
            <p:nvPr/>
          </p:nvSpPr>
          <p:spPr>
            <a:xfrm>
              <a:off x="2347920" y="5040000"/>
              <a:ext cx="157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4"/>
            <p:cNvSpPr/>
            <p:nvPr/>
          </p:nvSpPr>
          <p:spPr>
            <a:xfrm>
              <a:off x="2347920" y="4495680"/>
              <a:ext cx="15732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Picture 15" descr="Penny"/>
            <p:cNvPicPr/>
            <p:nvPr/>
          </p:nvPicPr>
          <p:blipFill>
            <a:blip r:embed="rId3"/>
            <a:stretch/>
          </p:blipFill>
          <p:spPr>
            <a:xfrm>
              <a:off x="2957400" y="5062320"/>
              <a:ext cx="42408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6" descr="Dime"/>
            <p:cNvPicPr/>
            <p:nvPr/>
          </p:nvPicPr>
          <p:blipFill>
            <a:blip r:embed="rId4"/>
            <a:stretch/>
          </p:blipFill>
          <p:spPr>
            <a:xfrm>
              <a:off x="2424240" y="5562360"/>
              <a:ext cx="4093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" descr="Dime"/>
            <p:cNvPicPr/>
            <p:nvPr/>
          </p:nvPicPr>
          <p:blipFill>
            <a:blip r:embed="rId5"/>
            <a:stretch/>
          </p:blipFill>
          <p:spPr>
            <a:xfrm>
              <a:off x="2957400" y="4571640"/>
              <a:ext cx="40968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8" descr="Dime"/>
            <p:cNvPicPr/>
            <p:nvPr/>
          </p:nvPicPr>
          <p:blipFill>
            <a:blip r:embed="rId6"/>
            <a:stretch/>
          </p:blipFill>
          <p:spPr>
            <a:xfrm>
              <a:off x="3490920" y="5562360"/>
              <a:ext cx="4096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9" descr="Dime"/>
            <p:cNvPicPr/>
            <p:nvPr/>
          </p:nvPicPr>
          <p:blipFill>
            <a:blip r:embed="rId7"/>
            <a:stretch/>
          </p:blipFill>
          <p:spPr>
            <a:xfrm>
              <a:off x="3490920" y="4571640"/>
              <a:ext cx="4096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Rectangle 20"/>
            <p:cNvSpPr/>
            <p:nvPr/>
          </p:nvSpPr>
          <p:spPr>
            <a:xfrm>
              <a:off x="2881440" y="5028840"/>
              <a:ext cx="533160" cy="480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21"/>
          <p:cNvSpPr/>
          <p:nvPr/>
        </p:nvSpPr>
        <p:spPr>
          <a:xfrm>
            <a:off x="3413160" y="4667400"/>
            <a:ext cx="1960560" cy="523800"/>
          </a:xfrm>
          <a:custGeom>
            <a:avLst/>
            <a:gdLst>
              <a:gd name="textAreaLeft" fmla="*/ 0 w 1960560"/>
              <a:gd name="textAreaRight" fmla="*/ 1960920 w 196056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235" h="330">
                <a:moveTo>
                  <a:pt x="0" y="330"/>
                </a:moveTo>
                <a:cubicBezTo>
                  <a:pt x="40" y="262"/>
                  <a:pt x="80" y="195"/>
                  <a:pt x="165" y="143"/>
                </a:cubicBezTo>
                <a:cubicBezTo>
                  <a:pt x="250" y="91"/>
                  <a:pt x="360" y="32"/>
                  <a:pt x="509" y="16"/>
                </a:cubicBezTo>
                <a:cubicBezTo>
                  <a:pt x="658" y="0"/>
                  <a:pt x="941" y="23"/>
                  <a:pt x="1062" y="46"/>
                </a:cubicBezTo>
                <a:cubicBezTo>
                  <a:pt x="1183" y="69"/>
                  <a:pt x="1209" y="110"/>
                  <a:pt x="1235" y="15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2" descr="Penny"/>
          <p:cNvPicPr/>
          <p:nvPr/>
        </p:nvPicPr>
        <p:blipFill>
          <a:blip r:embed="rId8"/>
          <a:stretch/>
        </p:blipFill>
        <p:spPr>
          <a:xfrm>
            <a:off x="3489480" y="2827440"/>
            <a:ext cx="423720" cy="4237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3"/>
          <p:cNvSpPr/>
          <p:nvPr/>
        </p:nvSpPr>
        <p:spPr>
          <a:xfrm>
            <a:off x="2879640" y="2260440"/>
            <a:ext cx="5335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2346480" y="279396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2346480" y="2805120"/>
            <a:ext cx="1571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346480" y="2260440"/>
            <a:ext cx="15732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7" descr="Penny"/>
          <p:cNvPicPr/>
          <p:nvPr/>
        </p:nvPicPr>
        <p:blipFill>
          <a:blip r:embed="rId9"/>
          <a:stretch/>
        </p:blipFill>
        <p:spPr>
          <a:xfrm>
            <a:off x="2955960" y="282744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8" descr="Dime"/>
          <p:cNvPicPr/>
          <p:nvPr/>
        </p:nvPicPr>
        <p:blipFill>
          <a:blip r:embed="rId10"/>
          <a:stretch/>
        </p:blipFill>
        <p:spPr>
          <a:xfrm>
            <a:off x="2422440" y="3327480"/>
            <a:ext cx="409680" cy="3999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9" descr="Dime"/>
          <p:cNvPicPr/>
          <p:nvPr/>
        </p:nvPicPr>
        <p:blipFill>
          <a:blip r:embed="rId11"/>
          <a:stretch/>
        </p:blipFill>
        <p:spPr>
          <a:xfrm>
            <a:off x="2955960" y="2336760"/>
            <a:ext cx="409680" cy="3999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0"/>
          <p:cNvSpPr/>
          <p:nvPr/>
        </p:nvSpPr>
        <p:spPr>
          <a:xfrm>
            <a:off x="2879640" y="2793960"/>
            <a:ext cx="533520" cy="4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1" descr="Penny"/>
          <p:cNvPicPr/>
          <p:nvPr/>
        </p:nvPicPr>
        <p:blipFill>
          <a:blip r:embed="rId12"/>
          <a:stretch/>
        </p:blipFill>
        <p:spPr>
          <a:xfrm>
            <a:off x="3476520" y="3313080"/>
            <a:ext cx="424080" cy="42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2" descr="Penny"/>
          <p:cNvPicPr/>
          <p:nvPr/>
        </p:nvPicPr>
        <p:blipFill>
          <a:blip r:embed="rId13"/>
          <a:stretch/>
        </p:blipFill>
        <p:spPr>
          <a:xfrm>
            <a:off x="2927520" y="33228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3" descr="Penny"/>
          <p:cNvPicPr/>
          <p:nvPr/>
        </p:nvPicPr>
        <p:blipFill>
          <a:blip r:embed="rId14"/>
          <a:stretch/>
        </p:blipFill>
        <p:spPr>
          <a:xfrm>
            <a:off x="2452680" y="232560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4" descr="Penny"/>
          <p:cNvPicPr/>
          <p:nvPr/>
        </p:nvPicPr>
        <p:blipFill>
          <a:blip r:embed="rId15"/>
          <a:stretch/>
        </p:blipFill>
        <p:spPr>
          <a:xfrm>
            <a:off x="3462480" y="2314440"/>
            <a:ext cx="423720" cy="42408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35"/>
          <p:cNvSpPr/>
          <p:nvPr/>
        </p:nvSpPr>
        <p:spPr>
          <a:xfrm>
            <a:off x="2992320" y="2844720"/>
            <a:ext cx="346320" cy="376200"/>
          </a:xfrm>
          <a:prstGeom prst="smileyFace">
            <a:avLst>
              <a:gd name="adj" fmla="val 928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36"/>
          <p:cNvGrpSpPr/>
          <p:nvPr/>
        </p:nvGrpSpPr>
        <p:grpSpPr>
          <a:xfrm>
            <a:off x="2975040" y="5095800"/>
            <a:ext cx="392040" cy="381240"/>
            <a:chOff x="2975040" y="5095800"/>
            <a:chExt cx="392040" cy="381240"/>
          </a:xfrm>
        </p:grpSpPr>
        <p:sp>
          <p:nvSpPr>
            <p:cNvPr id="441" name="Oval 37"/>
            <p:cNvSpPr/>
            <p:nvPr/>
          </p:nvSpPr>
          <p:spPr>
            <a:xfrm>
              <a:off x="2975040" y="5095800"/>
              <a:ext cx="392040" cy="38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38"/>
            <p:cNvSpPr/>
            <p:nvPr/>
          </p:nvSpPr>
          <p:spPr>
            <a:xfrm rot="5400000">
              <a:off x="3129480" y="5252760"/>
              <a:ext cx="864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39"/>
            <p:cNvSpPr/>
            <p:nvPr/>
          </p:nvSpPr>
          <p:spPr>
            <a:xfrm>
              <a:off x="3078360" y="5203080"/>
              <a:ext cx="49680" cy="4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40"/>
            <p:cNvSpPr/>
            <p:nvPr/>
          </p:nvSpPr>
          <p:spPr>
            <a:xfrm>
              <a:off x="3214080" y="5202000"/>
              <a:ext cx="49680" cy="4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41"/>
          <p:cNvSpPr/>
          <p:nvPr/>
        </p:nvSpPr>
        <p:spPr>
          <a:xfrm>
            <a:off x="4079880" y="40798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TH Light"/>
              </a:rPr>
              <a:t>&lt;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1978200" y="140796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TH Light"/>
              </a:rPr>
              <a:t>Micro-level rules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3"/>
          <p:cNvSpPr/>
          <p:nvPr/>
        </p:nvSpPr>
        <p:spPr>
          <a:xfrm>
            <a:off x="4140360" y="2192400"/>
            <a:ext cx="26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TH Light"/>
              </a:rPr>
              <a:t>Stay if at least a third of neighbors are “k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4"/>
          <p:cNvSpPr/>
          <p:nvPr/>
        </p:nvSpPr>
        <p:spPr>
          <a:xfrm>
            <a:off x="4211640" y="5124600"/>
            <a:ext cx="32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TH Light"/>
              </a:rPr>
              <a:t>Move to random location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chelling</a:t>
            </a:r>
            <a:r>
              <a:rPr b="1" lang="ja-JP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’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 Model of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5324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Calibri"/>
              </a:rPr>
              <a:t>Schelling (1971) demonstrates a theory to explain the persistence of racial segregation in an environment of growing tolerance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80000"/>
                </a:solidFill>
                <a:latin typeface="Calibri"/>
              </a:rPr>
              <a:t>If individuals will tolerate racial diversity, but will not tolerate being in a minority in their locality, segregation will still be the equilibrium situation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3724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37004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753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7670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chelling Model for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18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art with a CA with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lack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cells (random)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he new cell state is the state of the majority of the cell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 Moore neighbour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White cells change to black if there are X or more black neighbour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lack cells change to white if there are X or more white neighbour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How long will it take for a stable state to occur? 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chelling</a:t>
            </a:r>
            <a:r>
              <a:rPr b="1" lang="ja-JP" sz="3200" spc="-1" strike="noStrike">
                <a:solidFill>
                  <a:srgbClr val="003366"/>
                </a:solidFill>
                <a:latin typeface="Calibri"/>
              </a:rPr>
              <a:t>’</a:t>
            </a: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s Model of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924680" cy="865440"/>
          </a:xfrm>
          <a:prstGeom prst="rect">
            <a:avLst/>
          </a:prstGeom>
          <a:solidFill>
            <a:srgbClr val="afc7f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5e"/>
                </a:solidFill>
                <a:latin typeface="Calibri"/>
                <a:ea typeface="Calibri"/>
              </a:rPr>
              <a:t>Tolerance values above 30%: formation of ghetto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459" name="Picture 8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3314880" cy="3504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1" descr=""/>
          <p:cNvPicPr/>
          <p:nvPr/>
        </p:nvPicPr>
        <p:blipFill>
          <a:blip r:embed="rId2"/>
          <a:stretch/>
        </p:blipFill>
        <p:spPr>
          <a:xfrm>
            <a:off x="5148360" y="2421000"/>
            <a:ext cx="3314520" cy="35049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3"/>
          <p:cNvSpPr/>
          <p:nvPr/>
        </p:nvSpPr>
        <p:spPr>
          <a:xfrm>
            <a:off x="3724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37004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3753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7670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611280" y="404640"/>
            <a:ext cx="8305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4284720" y="4221000"/>
            <a:ext cx="762120" cy="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he Modified Majority Model for Segreg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random individual variation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individuals are more susceptible to their neighbours than others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white cells with five neighbours change to black, but: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“white” cells change to black if there are only four “black” neighbour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“white” cells change to black only if there are six “black” neighbour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 of individual difference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ppens in this case after 50 iterations and 500 iterations?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203280" y="1700280"/>
            <a:ext cx="590868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BM in TerraME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ypes and Functions</a:t>
            </a:r>
            <a:endParaRPr b="1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Oval 2"/>
          <p:cNvSpPr/>
          <p:nvPr/>
        </p:nvSpPr>
        <p:spPr>
          <a:xfrm>
            <a:off x="6051600" y="1889280"/>
            <a:ext cx="220968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"/>
          <p:cNvSpPr/>
          <p:nvPr/>
        </p:nvSpPr>
        <p:spPr>
          <a:xfrm>
            <a:off x="1022400" y="1889280"/>
            <a:ext cx="220968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AutoShape 4"/>
          <p:cNvCxnSpPr>
            <a:endCxn id="473" idx="4"/>
          </p:cNvCxnSpPr>
          <p:nvPr/>
        </p:nvCxnSpPr>
        <p:spPr>
          <a:xfrm flipH="1" flipV="1">
            <a:off x="2126880" y="3041280"/>
            <a:ext cx="216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5" name="AutoShape 5"/>
          <p:cNvCxnSpPr>
            <a:endCxn id="472" idx="4"/>
          </p:cNvCxnSpPr>
          <p:nvPr/>
        </p:nvCxnSpPr>
        <p:spPr>
          <a:xfrm flipV="1">
            <a:off x="7149960" y="3041280"/>
            <a:ext cx="720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76" name="Text Box 6"/>
          <p:cNvSpPr/>
          <p:nvPr/>
        </p:nvSpPr>
        <p:spPr>
          <a:xfrm>
            <a:off x="216540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7194600" y="35053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3765600" y="127944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870120" y="110340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Rel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899320" y="114156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AutoShape 11"/>
          <p:cNvCxnSpPr>
            <a:stCxn id="472" idx="3"/>
            <a:endCxn id="473" idx="5"/>
          </p:cNvCxnSpPr>
          <p:nvPr/>
        </p:nvCxnSpPr>
        <p:spPr>
          <a:xfrm rot="5400000">
            <a:off x="4640400" y="1140840"/>
            <a:ext cx="2160" cy="3467520"/>
          </a:xfrm>
          <a:prstGeom prst="curvedConnector5">
            <a:avLst>
              <a:gd name="adj1" fmla="val 25000000"/>
              <a:gd name="adj2" fmla="val 49994"/>
              <a:gd name="adj3" fmla="val 250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2" name="AutoShape 12"/>
          <p:cNvCxnSpPr>
            <a:stCxn id="473" idx="7"/>
            <a:endCxn id="472" idx="1"/>
          </p:cNvCxnSpPr>
          <p:nvPr/>
        </p:nvCxnSpPr>
        <p:spPr>
          <a:xfrm flipH="1" rot="16200000">
            <a:off x="4641120" y="324360"/>
            <a:ext cx="2160" cy="3467520"/>
          </a:xfrm>
          <a:prstGeom prst="curvedConnector5">
            <a:avLst>
              <a:gd name="adj1" fmla="val -25000000"/>
              <a:gd name="adj2" fmla="val 49994"/>
              <a:gd name="adj3" fmla="val -250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3" name="Text Box 13"/>
          <p:cNvSpPr/>
          <p:nvPr/>
        </p:nvSpPr>
        <p:spPr>
          <a:xfrm>
            <a:off x="3583080" y="292428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AutoShape 14"/>
          <p:cNvCxnSpPr/>
          <p:nvPr/>
        </p:nvCxnSpPr>
        <p:spPr>
          <a:xfrm flipH="1" rot="16200000">
            <a:off x="7149240" y="1399320"/>
            <a:ext cx="2160" cy="1130760"/>
          </a:xfrm>
          <a:prstGeom prst="curvedConnector5">
            <a:avLst>
              <a:gd name="adj1" fmla="val -32980000"/>
              <a:gd name="adj2" fmla="val 50000"/>
              <a:gd name="adj3" fmla="val -32980000"/>
            </a:avLst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485" name="AutoShape 15"/>
          <p:cNvCxnSpPr/>
          <p:nvPr/>
        </p:nvCxnSpPr>
        <p:spPr>
          <a:xfrm flipH="1" rot="16200000">
            <a:off x="2119680" y="1400040"/>
            <a:ext cx="2520" cy="1130760"/>
          </a:xfrm>
          <a:prstGeom prst="curvedConnector5">
            <a:avLst>
              <a:gd name="adj1" fmla="val -33000000"/>
              <a:gd name="adj2" fmla="val 50000"/>
              <a:gd name="adj3" fmla="val -330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486" name="Picture 16" descr=""/>
          <p:cNvPicPr/>
          <p:nvPr/>
        </p:nvPicPr>
        <p:blipFill>
          <a:blip r:embed="rId1"/>
          <a:stretch/>
        </p:blipFill>
        <p:spPr>
          <a:xfrm>
            <a:off x="4070520" y="568440"/>
            <a:ext cx="1188720" cy="711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7" descr=""/>
          <p:cNvPicPr/>
          <p:nvPr/>
        </p:nvPicPr>
        <p:blipFill>
          <a:blip r:embed="rId2"/>
          <a:stretch/>
        </p:blipFill>
        <p:spPr>
          <a:xfrm>
            <a:off x="4089240" y="2152800"/>
            <a:ext cx="1005120" cy="718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8" descr=""/>
          <p:cNvPicPr/>
          <p:nvPr/>
        </p:nvPicPr>
        <p:blipFill>
          <a:blip r:embed="rId3"/>
          <a:stretch/>
        </p:blipFill>
        <p:spPr>
          <a:xfrm>
            <a:off x="6548400" y="430200"/>
            <a:ext cx="1179720" cy="711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9" descr=""/>
          <p:cNvPicPr/>
          <p:nvPr/>
        </p:nvPicPr>
        <p:blipFill>
          <a:blip r:embed="rId4"/>
          <a:stretch/>
        </p:blipFill>
        <p:spPr>
          <a:xfrm>
            <a:off x="1565280" y="493560"/>
            <a:ext cx="1133640" cy="621000"/>
          </a:xfrm>
          <a:prstGeom prst="rect">
            <a:avLst/>
          </a:prstGeom>
          <a:ln w="0">
            <a:noFill/>
          </a:ln>
        </p:spPr>
      </p:pic>
      <p:sp>
        <p:nvSpPr>
          <p:cNvPr id="490" name="Oval 20"/>
          <p:cNvSpPr/>
          <p:nvPr/>
        </p:nvSpPr>
        <p:spPr>
          <a:xfrm>
            <a:off x="5854680" y="3962520"/>
            <a:ext cx="2590920" cy="1447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ula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21"/>
          <p:cNvSpPr/>
          <p:nvPr/>
        </p:nvSpPr>
        <p:spPr>
          <a:xfrm>
            <a:off x="833400" y="3962520"/>
            <a:ext cx="2590920" cy="1447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2"/>
          <p:cNvSpPr/>
          <p:nvPr/>
        </p:nvSpPr>
        <p:spPr>
          <a:xfrm>
            <a:off x="1351080" y="4521240"/>
            <a:ext cx="1560240" cy="873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3"/>
          <p:cNvSpPr/>
          <p:nvPr/>
        </p:nvSpPr>
        <p:spPr>
          <a:xfrm>
            <a:off x="6372360" y="4521240"/>
            <a:ext cx="1560240" cy="873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j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4"/>
          <p:cNvSpPr/>
          <p:nvPr/>
        </p:nvSpPr>
        <p:spPr>
          <a:xfrm>
            <a:off x="3930480" y="5562720"/>
            <a:ext cx="1600200" cy="12189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Humnst777 BT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5"/>
          <p:cNvSpPr/>
          <p:nvPr/>
        </p:nvSpPr>
        <p:spPr>
          <a:xfrm rot="2413800">
            <a:off x="5289120" y="4800600"/>
            <a:ext cx="533520" cy="762120"/>
          </a:xfrm>
          <a:prstGeom prst="upDownArrow">
            <a:avLst>
              <a:gd name="adj1" fmla="val 50000"/>
              <a:gd name="adj2" fmla="val 2843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6"/>
          <p:cNvSpPr/>
          <p:nvPr/>
        </p:nvSpPr>
        <p:spPr>
          <a:xfrm rot="18832200">
            <a:off x="3498840" y="4864320"/>
            <a:ext cx="533520" cy="761760"/>
          </a:xfrm>
          <a:prstGeom prst="upDownArrow">
            <a:avLst>
              <a:gd name="adj1" fmla="val 50000"/>
              <a:gd name="adj2" fmla="val 28424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ciet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4140360" y="5940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00ae00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4751280" y="4751280"/>
            <a:ext cx="1368360" cy="755640"/>
          </a:xfrm>
          <a:prstGeom prst="cloudCallout">
            <a:avLst>
              <a:gd name="adj1" fmla="val -59310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文鼎PL細上海宋Uni"/>
              </a:rPr>
              <a:t>上海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2160720" y="569736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2771640" y="4508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1079640" y="3708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1728720" y="251928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2160720" y="417672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2771640" y="2987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6840360" y="3959280"/>
            <a:ext cx="54000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7451640" y="2771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4068720" y="442764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4680000" y="324000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3780000" y="172872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>
            <a:off x="4392720" y="53964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7"/>
          <p:cNvSpPr/>
          <p:nvPr/>
        </p:nvSpPr>
        <p:spPr>
          <a:xfrm>
            <a:off x="4859280" y="219564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8"/>
          <p:cNvSpPr/>
          <p:nvPr/>
        </p:nvSpPr>
        <p:spPr>
          <a:xfrm>
            <a:off x="5472000" y="100800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9"/>
          <p:cNvSpPr/>
          <p:nvPr/>
        </p:nvSpPr>
        <p:spPr>
          <a:xfrm>
            <a:off x="6083280" y="575928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0"/>
          <p:cNvSpPr/>
          <p:nvPr/>
        </p:nvSpPr>
        <p:spPr>
          <a:xfrm>
            <a:off x="6696000" y="457200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1"/>
          <p:cNvSpPr/>
          <p:nvPr/>
        </p:nvSpPr>
        <p:spPr>
          <a:xfrm>
            <a:off x="6083280" y="32400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22"/>
          <p:cNvSpPr/>
          <p:nvPr/>
        </p:nvSpPr>
        <p:spPr>
          <a:xfrm>
            <a:off x="6696000" y="205272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3"/>
          <p:cNvSpPr/>
          <p:nvPr/>
        </p:nvSpPr>
        <p:spPr>
          <a:xfrm>
            <a:off x="684360" y="2592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4"/>
          <p:cNvSpPr/>
          <p:nvPr/>
        </p:nvSpPr>
        <p:spPr>
          <a:xfrm>
            <a:off x="1295280" y="140328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5"/>
          <p:cNvSpPr/>
          <p:nvPr/>
        </p:nvSpPr>
        <p:spPr>
          <a:xfrm>
            <a:off x="503280" y="591336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6"/>
          <p:cNvSpPr/>
          <p:nvPr/>
        </p:nvSpPr>
        <p:spPr>
          <a:xfrm>
            <a:off x="1116000" y="472608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7"/>
          <p:cNvSpPr/>
          <p:nvPr/>
        </p:nvSpPr>
        <p:spPr>
          <a:xfrm>
            <a:off x="7307280" y="619128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8"/>
          <p:cNvSpPr/>
          <p:nvPr/>
        </p:nvSpPr>
        <p:spPr>
          <a:xfrm>
            <a:off x="7920000" y="5003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formation flows in Natur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429240" cy="5006880"/>
          </a:xfrm>
          <a:prstGeom prst="rect">
            <a:avLst/>
          </a:prstGeom>
          <a:ln w="0">
            <a:noFill/>
          </a:ln>
        </p:spPr>
      </p:pic>
      <p:sp>
        <p:nvSpPr>
          <p:cNvPr id="216" name="CaixaDeTexto 3"/>
          <p:cNvSpPr/>
          <p:nvPr/>
        </p:nvSpPr>
        <p:spPr>
          <a:xfrm>
            <a:off x="1978200" y="6165720"/>
            <a:ext cx="4674960" cy="459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f"/>
                </a:solidFill>
                <a:latin typeface="Calibri"/>
                <a:ea typeface="Arial"/>
              </a:rPr>
              <a:t>Ant colonies live in a chemic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720720" y="1197000"/>
            <a:ext cx="8820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gent = </a:t>
            </a:r>
            <a:r>
              <a:rPr b="0" lang="en-GB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apit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nt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ital = capit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i="1" lang="en-GB" sz="2200" spc="-1" strike="noStrike">
                <a:solidFill>
                  <a:srgbClr val="999999"/>
                </a:solidFill>
                <a:latin typeface="Courier New"/>
                <a:ea typeface="Courier New"/>
              </a:rPr>
              <a:t>--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= {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1] = 100; data[2] = 50; data[3] =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g = Society(createAgent, da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g = Society(createAgent, 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upo 12"/>
          <p:cNvGrpSpPr/>
          <p:nvPr/>
        </p:nvGrpSpPr>
        <p:grpSpPr>
          <a:xfrm>
            <a:off x="1547640" y="4724280"/>
            <a:ext cx="6137280" cy="1297080"/>
            <a:chOff x="1547640" y="4724280"/>
            <a:chExt cx="6137280" cy="1297080"/>
          </a:xfrm>
        </p:grpSpPr>
        <p:sp>
          <p:nvSpPr>
            <p:cNvPr id="526" name="Text Box 41"/>
            <p:cNvSpPr/>
            <p:nvPr/>
          </p:nvSpPr>
          <p:spPr>
            <a:xfrm>
              <a:off x="1601280" y="5592600"/>
              <a:ext cx="197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pital = 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42"/>
            <p:cNvSpPr/>
            <p:nvPr/>
          </p:nvSpPr>
          <p:spPr>
            <a:xfrm>
              <a:off x="3689280" y="5592600"/>
              <a:ext cx="197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pital = 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3"/>
            <p:cNvSpPr/>
            <p:nvPr/>
          </p:nvSpPr>
          <p:spPr>
            <a:xfrm>
              <a:off x="5705280" y="5592600"/>
              <a:ext cx="197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pital = 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4"/>
            <p:cNvSpPr/>
            <p:nvPr/>
          </p:nvSpPr>
          <p:spPr>
            <a:xfrm>
              <a:off x="1547640" y="4724280"/>
              <a:ext cx="5940720" cy="1297080"/>
            </a:xfrm>
            <a:prstGeom prst="rect">
              <a:avLst/>
            </a:prstGeom>
            <a:noFill/>
            <a:ln w="36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45"/>
            <p:cNvSpPr/>
            <p:nvPr/>
          </p:nvSpPr>
          <p:spPr>
            <a:xfrm>
              <a:off x="6210360" y="4831920"/>
              <a:ext cx="684000" cy="68436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6"/>
            <p:cNvSpPr/>
            <p:nvPr/>
          </p:nvSpPr>
          <p:spPr>
            <a:xfrm>
              <a:off x="4122360" y="4831920"/>
              <a:ext cx="684000" cy="68436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47"/>
            <p:cNvSpPr/>
            <p:nvPr/>
          </p:nvSpPr>
          <p:spPr>
            <a:xfrm>
              <a:off x="2106360" y="4831920"/>
              <a:ext cx="684000" cy="68436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Societ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10"/>
          <p:cNvSpPr/>
          <p:nvPr/>
        </p:nvSpPr>
        <p:spPr>
          <a:xfrm>
            <a:off x="6840360" y="3959280"/>
            <a:ext cx="54000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7451640" y="2771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680000" y="526572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5291280" y="407844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3564000" y="173844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4176720" y="549360"/>
            <a:ext cx="115236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4859280" y="219564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472000" y="100800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8"/>
          <p:cNvSpPr/>
          <p:nvPr/>
        </p:nvSpPr>
        <p:spPr>
          <a:xfrm>
            <a:off x="6083280" y="575928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9"/>
          <p:cNvSpPr/>
          <p:nvPr/>
        </p:nvSpPr>
        <p:spPr>
          <a:xfrm>
            <a:off x="6696000" y="457200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0"/>
          <p:cNvSpPr/>
          <p:nvPr/>
        </p:nvSpPr>
        <p:spPr>
          <a:xfrm>
            <a:off x="6083280" y="32400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1"/>
          <p:cNvSpPr/>
          <p:nvPr/>
        </p:nvSpPr>
        <p:spPr>
          <a:xfrm>
            <a:off x="6696000" y="205272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2"/>
          <p:cNvSpPr/>
          <p:nvPr/>
        </p:nvSpPr>
        <p:spPr>
          <a:xfrm>
            <a:off x="1187280" y="2313000"/>
            <a:ext cx="54000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3"/>
          <p:cNvSpPr/>
          <p:nvPr/>
        </p:nvSpPr>
        <p:spPr>
          <a:xfrm>
            <a:off x="1798560" y="112392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upo 28"/>
          <p:cNvGrpSpPr/>
          <p:nvPr/>
        </p:nvGrpSpPr>
        <p:grpSpPr>
          <a:xfrm>
            <a:off x="539640" y="2305080"/>
            <a:ext cx="4386240" cy="4363920"/>
            <a:chOff x="539640" y="2305080"/>
            <a:chExt cx="4386240" cy="4363920"/>
          </a:xfrm>
        </p:grpSpPr>
        <p:sp>
          <p:nvSpPr>
            <p:cNvPr id="549" name="Freeform 2"/>
            <p:cNvSpPr/>
            <p:nvPr/>
          </p:nvSpPr>
          <p:spPr>
            <a:xfrm>
              <a:off x="539640" y="2305080"/>
              <a:ext cx="4386240" cy="4363920"/>
            </a:xfrm>
            <a:custGeom>
              <a:avLst/>
              <a:gdLst>
                <a:gd name="textAreaLeft" fmla="*/ 0 w 4386240"/>
                <a:gd name="textAreaRight" fmla="*/ 4386600 w 4386240"/>
                <a:gd name="textAreaTop" fmla="*/ 0 h 4363920"/>
                <a:gd name="textAreaBottom" fmla="*/ 4363920 h 4363920"/>
              </a:gdLst>
              <a:ahLst/>
              <a:rect l="textAreaLeft" t="textAreaTop" r="textAreaRight" b="textAreaBottom"/>
              <a:pathLst>
                <a:path w="2763" h="2749">
                  <a:moveTo>
                    <a:pt x="183" y="1772"/>
                  </a:moveTo>
                  <a:cubicBezTo>
                    <a:pt x="216" y="1717"/>
                    <a:pt x="231" y="1660"/>
                    <a:pt x="242" y="1597"/>
                  </a:cubicBezTo>
                  <a:cubicBezTo>
                    <a:pt x="248" y="1352"/>
                    <a:pt x="215" y="1349"/>
                    <a:pt x="258" y="1221"/>
                  </a:cubicBezTo>
                  <a:cubicBezTo>
                    <a:pt x="273" y="1176"/>
                    <a:pt x="284" y="1130"/>
                    <a:pt x="309" y="1088"/>
                  </a:cubicBezTo>
                  <a:cubicBezTo>
                    <a:pt x="319" y="1071"/>
                    <a:pt x="342" y="1038"/>
                    <a:pt x="342" y="1038"/>
                  </a:cubicBezTo>
                  <a:cubicBezTo>
                    <a:pt x="359" y="984"/>
                    <a:pt x="337" y="1046"/>
                    <a:pt x="375" y="979"/>
                  </a:cubicBezTo>
                  <a:cubicBezTo>
                    <a:pt x="414" y="911"/>
                    <a:pt x="435" y="886"/>
                    <a:pt x="492" y="829"/>
                  </a:cubicBezTo>
                  <a:cubicBezTo>
                    <a:pt x="525" y="796"/>
                    <a:pt x="547" y="768"/>
                    <a:pt x="592" y="754"/>
                  </a:cubicBezTo>
                  <a:cubicBezTo>
                    <a:pt x="628" y="728"/>
                    <a:pt x="663" y="712"/>
                    <a:pt x="701" y="687"/>
                  </a:cubicBezTo>
                  <a:cubicBezTo>
                    <a:pt x="709" y="681"/>
                    <a:pt x="718" y="676"/>
                    <a:pt x="726" y="670"/>
                  </a:cubicBezTo>
                  <a:cubicBezTo>
                    <a:pt x="734" y="665"/>
                    <a:pt x="751" y="654"/>
                    <a:pt x="751" y="654"/>
                  </a:cubicBezTo>
                  <a:cubicBezTo>
                    <a:pt x="763" y="636"/>
                    <a:pt x="781" y="622"/>
                    <a:pt x="793" y="604"/>
                  </a:cubicBezTo>
                  <a:cubicBezTo>
                    <a:pt x="798" y="597"/>
                    <a:pt x="796" y="586"/>
                    <a:pt x="801" y="579"/>
                  </a:cubicBezTo>
                  <a:cubicBezTo>
                    <a:pt x="807" y="569"/>
                    <a:pt x="819" y="563"/>
                    <a:pt x="826" y="554"/>
                  </a:cubicBezTo>
                  <a:cubicBezTo>
                    <a:pt x="841" y="535"/>
                    <a:pt x="857" y="516"/>
                    <a:pt x="868" y="495"/>
                  </a:cubicBezTo>
                  <a:cubicBezTo>
                    <a:pt x="885" y="461"/>
                    <a:pt x="894" y="441"/>
                    <a:pt x="926" y="420"/>
                  </a:cubicBezTo>
                  <a:cubicBezTo>
                    <a:pt x="953" y="381"/>
                    <a:pt x="958" y="334"/>
                    <a:pt x="985" y="295"/>
                  </a:cubicBezTo>
                  <a:cubicBezTo>
                    <a:pt x="1010" y="218"/>
                    <a:pt x="1090" y="206"/>
                    <a:pt x="1143" y="153"/>
                  </a:cubicBezTo>
                  <a:cubicBezTo>
                    <a:pt x="1190" y="106"/>
                    <a:pt x="1245" y="107"/>
                    <a:pt x="1302" y="78"/>
                  </a:cubicBezTo>
                  <a:cubicBezTo>
                    <a:pt x="1419" y="18"/>
                    <a:pt x="1511" y="10"/>
                    <a:pt x="1644" y="3"/>
                  </a:cubicBezTo>
                  <a:cubicBezTo>
                    <a:pt x="1888" y="12"/>
                    <a:pt x="1806" y="0"/>
                    <a:pt x="1953" y="53"/>
                  </a:cubicBezTo>
                  <a:cubicBezTo>
                    <a:pt x="1961" y="61"/>
                    <a:pt x="1968" y="72"/>
                    <a:pt x="1978" y="78"/>
                  </a:cubicBezTo>
                  <a:cubicBezTo>
                    <a:pt x="1999" y="89"/>
                    <a:pt x="2045" y="103"/>
                    <a:pt x="2045" y="103"/>
                  </a:cubicBezTo>
                  <a:cubicBezTo>
                    <a:pt x="2079" y="128"/>
                    <a:pt x="2105" y="142"/>
                    <a:pt x="2145" y="153"/>
                  </a:cubicBezTo>
                  <a:cubicBezTo>
                    <a:pt x="2203" y="192"/>
                    <a:pt x="2277" y="194"/>
                    <a:pt x="2345" y="203"/>
                  </a:cubicBezTo>
                  <a:cubicBezTo>
                    <a:pt x="2390" y="217"/>
                    <a:pt x="2434" y="231"/>
                    <a:pt x="2479" y="245"/>
                  </a:cubicBezTo>
                  <a:cubicBezTo>
                    <a:pt x="2496" y="250"/>
                    <a:pt x="2529" y="261"/>
                    <a:pt x="2529" y="261"/>
                  </a:cubicBezTo>
                  <a:cubicBezTo>
                    <a:pt x="2559" y="281"/>
                    <a:pt x="2595" y="300"/>
                    <a:pt x="2629" y="311"/>
                  </a:cubicBezTo>
                  <a:cubicBezTo>
                    <a:pt x="2667" y="367"/>
                    <a:pt x="2623" y="312"/>
                    <a:pt x="2671" y="345"/>
                  </a:cubicBezTo>
                  <a:cubicBezTo>
                    <a:pt x="2690" y="358"/>
                    <a:pt x="2700" y="377"/>
                    <a:pt x="2713" y="395"/>
                  </a:cubicBezTo>
                  <a:cubicBezTo>
                    <a:pt x="2733" y="459"/>
                    <a:pt x="2751" y="521"/>
                    <a:pt x="2763" y="587"/>
                  </a:cubicBezTo>
                  <a:cubicBezTo>
                    <a:pt x="2752" y="691"/>
                    <a:pt x="2758" y="675"/>
                    <a:pt x="2704" y="746"/>
                  </a:cubicBezTo>
                  <a:cubicBezTo>
                    <a:pt x="2674" y="785"/>
                    <a:pt x="2668" y="812"/>
                    <a:pt x="2629" y="837"/>
                  </a:cubicBezTo>
                  <a:cubicBezTo>
                    <a:pt x="2609" y="868"/>
                    <a:pt x="2571" y="904"/>
                    <a:pt x="2537" y="921"/>
                  </a:cubicBezTo>
                  <a:cubicBezTo>
                    <a:pt x="2510" y="935"/>
                    <a:pt x="2481" y="938"/>
                    <a:pt x="2454" y="954"/>
                  </a:cubicBezTo>
                  <a:cubicBezTo>
                    <a:pt x="2428" y="970"/>
                    <a:pt x="2404" y="987"/>
                    <a:pt x="2379" y="1004"/>
                  </a:cubicBezTo>
                  <a:cubicBezTo>
                    <a:pt x="2371" y="1010"/>
                    <a:pt x="2362" y="1015"/>
                    <a:pt x="2354" y="1021"/>
                  </a:cubicBezTo>
                  <a:cubicBezTo>
                    <a:pt x="2346" y="1027"/>
                    <a:pt x="2329" y="1038"/>
                    <a:pt x="2329" y="1038"/>
                  </a:cubicBezTo>
                  <a:cubicBezTo>
                    <a:pt x="2288" y="1099"/>
                    <a:pt x="2279" y="1142"/>
                    <a:pt x="2262" y="1213"/>
                  </a:cubicBezTo>
                  <a:cubicBezTo>
                    <a:pt x="2267" y="1340"/>
                    <a:pt x="2262" y="1393"/>
                    <a:pt x="2295" y="1497"/>
                  </a:cubicBezTo>
                  <a:cubicBezTo>
                    <a:pt x="2303" y="1522"/>
                    <a:pt x="2316" y="1549"/>
                    <a:pt x="2329" y="1572"/>
                  </a:cubicBezTo>
                  <a:cubicBezTo>
                    <a:pt x="2339" y="1589"/>
                    <a:pt x="2362" y="1622"/>
                    <a:pt x="2362" y="1622"/>
                  </a:cubicBezTo>
                  <a:cubicBezTo>
                    <a:pt x="2386" y="1696"/>
                    <a:pt x="2346" y="1583"/>
                    <a:pt x="2395" y="1680"/>
                  </a:cubicBezTo>
                  <a:cubicBezTo>
                    <a:pt x="2407" y="1704"/>
                    <a:pt x="2412" y="1731"/>
                    <a:pt x="2421" y="1756"/>
                  </a:cubicBezTo>
                  <a:cubicBezTo>
                    <a:pt x="2417" y="1851"/>
                    <a:pt x="2435" y="2001"/>
                    <a:pt x="2337" y="2064"/>
                  </a:cubicBezTo>
                  <a:cubicBezTo>
                    <a:pt x="2305" y="2112"/>
                    <a:pt x="2257" y="2117"/>
                    <a:pt x="2203" y="2131"/>
                  </a:cubicBezTo>
                  <a:cubicBezTo>
                    <a:pt x="2189" y="2134"/>
                    <a:pt x="2175" y="2136"/>
                    <a:pt x="2162" y="2140"/>
                  </a:cubicBezTo>
                  <a:cubicBezTo>
                    <a:pt x="2145" y="2145"/>
                    <a:pt x="2112" y="2156"/>
                    <a:pt x="2112" y="2156"/>
                  </a:cubicBezTo>
                  <a:cubicBezTo>
                    <a:pt x="2086" y="2174"/>
                    <a:pt x="2035" y="2199"/>
                    <a:pt x="2011" y="2223"/>
                  </a:cubicBezTo>
                  <a:cubicBezTo>
                    <a:pt x="1992" y="2243"/>
                    <a:pt x="1953" y="2282"/>
                    <a:pt x="1953" y="2282"/>
                  </a:cubicBezTo>
                  <a:cubicBezTo>
                    <a:pt x="1935" y="2338"/>
                    <a:pt x="1960" y="2278"/>
                    <a:pt x="1920" y="2323"/>
                  </a:cubicBezTo>
                  <a:cubicBezTo>
                    <a:pt x="1849" y="2403"/>
                    <a:pt x="1919" y="2351"/>
                    <a:pt x="1861" y="2390"/>
                  </a:cubicBezTo>
                  <a:cubicBezTo>
                    <a:pt x="1850" y="2426"/>
                    <a:pt x="1826" y="2428"/>
                    <a:pt x="1803" y="2457"/>
                  </a:cubicBezTo>
                  <a:cubicBezTo>
                    <a:pt x="1733" y="2547"/>
                    <a:pt x="1801" y="2475"/>
                    <a:pt x="1744" y="2532"/>
                  </a:cubicBezTo>
                  <a:cubicBezTo>
                    <a:pt x="1729" y="2595"/>
                    <a:pt x="1660" y="2640"/>
                    <a:pt x="1602" y="2666"/>
                  </a:cubicBezTo>
                  <a:cubicBezTo>
                    <a:pt x="1578" y="2677"/>
                    <a:pt x="1551" y="2679"/>
                    <a:pt x="1527" y="2691"/>
                  </a:cubicBezTo>
                  <a:cubicBezTo>
                    <a:pt x="1478" y="2715"/>
                    <a:pt x="1440" y="2739"/>
                    <a:pt x="1385" y="2749"/>
                  </a:cubicBezTo>
                  <a:cubicBezTo>
                    <a:pt x="1332" y="2746"/>
                    <a:pt x="1280" y="2746"/>
                    <a:pt x="1227" y="2741"/>
                  </a:cubicBezTo>
                  <a:cubicBezTo>
                    <a:pt x="1205" y="2739"/>
                    <a:pt x="1195" y="2725"/>
                    <a:pt x="1177" y="2716"/>
                  </a:cubicBezTo>
                  <a:cubicBezTo>
                    <a:pt x="1149" y="2702"/>
                    <a:pt x="1119" y="2701"/>
                    <a:pt x="1093" y="2682"/>
                  </a:cubicBezTo>
                  <a:cubicBezTo>
                    <a:pt x="1083" y="2675"/>
                    <a:pt x="1078" y="2663"/>
                    <a:pt x="1068" y="2657"/>
                  </a:cubicBezTo>
                  <a:cubicBezTo>
                    <a:pt x="1034" y="2635"/>
                    <a:pt x="982" y="2628"/>
                    <a:pt x="943" y="2615"/>
                  </a:cubicBezTo>
                  <a:cubicBezTo>
                    <a:pt x="926" y="2609"/>
                    <a:pt x="893" y="2599"/>
                    <a:pt x="893" y="2599"/>
                  </a:cubicBezTo>
                  <a:cubicBezTo>
                    <a:pt x="588" y="2607"/>
                    <a:pt x="670" y="2604"/>
                    <a:pt x="492" y="2632"/>
                  </a:cubicBezTo>
                  <a:cubicBezTo>
                    <a:pt x="311" y="2625"/>
                    <a:pt x="298" y="2627"/>
                    <a:pt x="158" y="2582"/>
                  </a:cubicBezTo>
                  <a:cubicBezTo>
                    <a:pt x="78" y="2529"/>
                    <a:pt x="133" y="2557"/>
                    <a:pt x="75" y="2499"/>
                  </a:cubicBezTo>
                  <a:cubicBezTo>
                    <a:pt x="58" y="2424"/>
                    <a:pt x="42" y="2339"/>
                    <a:pt x="0" y="2273"/>
                  </a:cubicBezTo>
                  <a:cubicBezTo>
                    <a:pt x="8" y="2166"/>
                    <a:pt x="18" y="2134"/>
                    <a:pt x="50" y="2039"/>
                  </a:cubicBezTo>
                  <a:cubicBezTo>
                    <a:pt x="56" y="2022"/>
                    <a:pt x="61" y="2006"/>
                    <a:pt x="66" y="1989"/>
                  </a:cubicBezTo>
                  <a:cubicBezTo>
                    <a:pt x="72" y="1970"/>
                    <a:pt x="100" y="1939"/>
                    <a:pt x="100" y="1939"/>
                  </a:cubicBezTo>
                  <a:cubicBezTo>
                    <a:pt x="117" y="1885"/>
                    <a:pt x="159" y="1861"/>
                    <a:pt x="183" y="1814"/>
                  </a:cubicBezTo>
                  <a:cubicBezTo>
                    <a:pt x="191" y="1797"/>
                    <a:pt x="223" y="1753"/>
                    <a:pt x="183" y="1772"/>
                  </a:cubicBezTo>
                  <a:close/>
                </a:path>
              </a:pathLst>
            </a:custGeom>
            <a:solidFill>
              <a:srgbClr val="9999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4"/>
            <p:cNvSpPr/>
            <p:nvPr/>
          </p:nvSpPr>
          <p:spPr>
            <a:xfrm>
              <a:off x="2304360" y="5959440"/>
              <a:ext cx="539640" cy="53964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5"/>
            <p:cNvSpPr/>
            <p:nvPr/>
          </p:nvSpPr>
          <p:spPr>
            <a:xfrm>
              <a:off x="2915640" y="4770360"/>
              <a:ext cx="1152360" cy="755640"/>
            </a:xfrm>
            <a:prstGeom prst="cloudCallout">
              <a:avLst>
                <a:gd name="adj1" fmla="val -61055"/>
                <a:gd name="adj2" fmla="val 104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583640" y="3727440"/>
              <a:ext cx="539640" cy="53964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7"/>
            <p:cNvSpPr/>
            <p:nvPr/>
          </p:nvSpPr>
          <p:spPr>
            <a:xfrm>
              <a:off x="2232720" y="2538360"/>
              <a:ext cx="1152360" cy="755640"/>
            </a:xfrm>
            <a:prstGeom prst="cloudCallout">
              <a:avLst>
                <a:gd name="adj1" fmla="val -61055"/>
                <a:gd name="adj2" fmla="val 104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8"/>
            <p:cNvSpPr/>
            <p:nvPr/>
          </p:nvSpPr>
          <p:spPr>
            <a:xfrm>
              <a:off x="2664720" y="4195800"/>
              <a:ext cx="539640" cy="53964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3276000" y="3006720"/>
              <a:ext cx="1152360" cy="755640"/>
            </a:xfrm>
            <a:prstGeom prst="cloudCallout">
              <a:avLst>
                <a:gd name="adj1" fmla="val -61055"/>
                <a:gd name="adj2" fmla="val 104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24"/>
            <p:cNvSpPr/>
            <p:nvPr/>
          </p:nvSpPr>
          <p:spPr>
            <a:xfrm>
              <a:off x="683280" y="5707080"/>
              <a:ext cx="539640" cy="53964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5"/>
            <p:cNvSpPr/>
            <p:nvPr/>
          </p:nvSpPr>
          <p:spPr>
            <a:xfrm>
              <a:off x="1296360" y="4519440"/>
              <a:ext cx="1152360" cy="755640"/>
            </a:xfrm>
            <a:prstGeom prst="cloudCallout">
              <a:avLst>
                <a:gd name="adj1" fmla="val -61055"/>
                <a:gd name="adj2" fmla="val 104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26"/>
          <p:cNvSpPr/>
          <p:nvPr/>
        </p:nvSpPr>
        <p:spPr>
          <a:xfrm>
            <a:off x="7307280" y="619128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7"/>
          <p:cNvSpPr/>
          <p:nvPr/>
        </p:nvSpPr>
        <p:spPr>
          <a:xfrm>
            <a:off x="7920000" y="5003640"/>
            <a:ext cx="1152720" cy="755640"/>
          </a:xfrm>
          <a:prstGeom prst="cloudCallout">
            <a:avLst>
              <a:gd name="adj1" fmla="val -61055"/>
              <a:gd name="adj2" fmla="val 104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Grou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332000" y="4724280"/>
            <a:ext cx="4319640" cy="1638360"/>
          </a:xfrm>
          <a:prstGeom prst="ellipse">
            <a:avLst/>
          </a:prstGeom>
          <a:solidFill>
            <a:srgbClr val="ff0000">
              <a:alpha val="10000"/>
            </a:srgbClr>
          </a:solidFill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0" y="684360"/>
            <a:ext cx="9144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792000" y="1557360"/>
            <a:ext cx="738036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 = Group{ma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nt. capital &gt;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1, a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1.capital &gt; a2.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65564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374328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575928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1601640" y="4940280"/>
            <a:ext cx="5940720" cy="1297080"/>
          </a:xfrm>
          <a:prstGeom prst="rect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30"/>
          <p:cNvSpPr/>
          <p:nvPr/>
        </p:nvSpPr>
        <p:spPr>
          <a:xfrm>
            <a:off x="6264360" y="5048280"/>
            <a:ext cx="68400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1"/>
          <p:cNvSpPr/>
          <p:nvPr/>
        </p:nvSpPr>
        <p:spPr>
          <a:xfrm>
            <a:off x="4176720" y="504828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2"/>
          <p:cNvSpPr/>
          <p:nvPr/>
        </p:nvSpPr>
        <p:spPr>
          <a:xfrm>
            <a:off x="2160720" y="5048280"/>
            <a:ext cx="68400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Group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3"/>
          <p:cNvSpPr/>
          <p:nvPr/>
        </p:nvSpPr>
        <p:spPr>
          <a:xfrm>
            <a:off x="0" y="847800"/>
            <a:ext cx="9144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792000" y="3405240"/>
            <a:ext cx="766764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Agent(mag, </a:t>
            </a:r>
            <a:r>
              <a:rPr b="0" lang="en-GB" sz="2400" spc="-1" strike="noStrike">
                <a:solidFill>
                  <a:srgbClr val="00007d"/>
                </a:solidFill>
                <a:latin typeface="Courier New"/>
                <a:ea typeface="Courier New"/>
              </a:rPr>
              <a:t>func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.capital = agent.capital 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urier New"/>
                <a:ea typeface="Courier New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165564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374328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759280" y="5808600"/>
            <a:ext cx="1979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1601640" y="4940280"/>
            <a:ext cx="5940720" cy="1297080"/>
          </a:xfrm>
          <a:prstGeom prst="rect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0"/>
          <p:cNvSpPr/>
          <p:nvPr/>
        </p:nvSpPr>
        <p:spPr>
          <a:xfrm>
            <a:off x="6264360" y="5048280"/>
            <a:ext cx="68400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1"/>
          <p:cNvSpPr/>
          <p:nvPr/>
        </p:nvSpPr>
        <p:spPr>
          <a:xfrm>
            <a:off x="4176720" y="504828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2"/>
          <p:cNvSpPr/>
          <p:nvPr/>
        </p:nvSpPr>
        <p:spPr>
          <a:xfrm>
            <a:off x="2160720" y="5048280"/>
            <a:ext cx="68400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1763640" y="2543040"/>
            <a:ext cx="1720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851280" y="2543040"/>
            <a:ext cx="1720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867280" y="2543040"/>
            <a:ext cx="1720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pital =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7"/>
          <p:cNvSpPr/>
          <p:nvPr/>
        </p:nvSpPr>
        <p:spPr>
          <a:xfrm>
            <a:off x="1603440" y="1674720"/>
            <a:ext cx="5940360" cy="1297080"/>
          </a:xfrm>
          <a:prstGeom prst="rect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8"/>
          <p:cNvSpPr/>
          <p:nvPr/>
        </p:nvSpPr>
        <p:spPr>
          <a:xfrm>
            <a:off x="6265800" y="178272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9"/>
          <p:cNvSpPr/>
          <p:nvPr/>
        </p:nvSpPr>
        <p:spPr>
          <a:xfrm>
            <a:off x="4178160" y="178272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0"/>
          <p:cNvSpPr/>
          <p:nvPr/>
        </p:nvSpPr>
        <p:spPr>
          <a:xfrm>
            <a:off x="2162160" y="1782720"/>
            <a:ext cx="684360" cy="684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AutoShape 21"/>
          <p:cNvCxnSpPr/>
          <p:nvPr/>
        </p:nvCxnSpPr>
        <p:spPr>
          <a:xfrm>
            <a:off x="7848720" y="2361960"/>
            <a:ext cx="2160" cy="3337560"/>
          </a:xfrm>
          <a:prstGeom prst="curvedConnector5">
            <a:avLst>
              <a:gd name="adj1" fmla="val 55300000"/>
              <a:gd name="adj2" fmla="val 50000"/>
              <a:gd name="adj3" fmla="val 55300000"/>
            </a:avLst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Traversing the Society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780000" y="2220840"/>
            <a:ext cx="3871800" cy="3440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"/>
          <p:cNvSpPr/>
          <p:nvPr/>
        </p:nvSpPr>
        <p:spPr>
          <a:xfrm>
            <a:off x="0" y="684360"/>
            <a:ext cx="9144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"/>
          <p:cNvSpPr/>
          <p:nvPr/>
        </p:nvSpPr>
        <p:spPr>
          <a:xfrm>
            <a:off x="777960" y="1224000"/>
            <a:ext cx="861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s = cell:getAgent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le.getn(agents) == 0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he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en-GB" sz="2400" spc="-1" strike="noStrike">
                <a:solidFill>
                  <a:srgbClr val="999999"/>
                </a:solidFill>
                <a:latin typeface="Courier New"/>
                <a:ea typeface="Courier New"/>
              </a:rPr>
              <a:t>--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:leave(old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:enter(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781200" y="5270400"/>
            <a:ext cx="8615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s = cell:getAgent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able.getn(agents) == 0 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he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en-GB" sz="2400" spc="-1" strike="noStrike">
                <a:solidFill>
                  <a:srgbClr val="999999"/>
                </a:solidFill>
                <a:latin typeface="Courier New"/>
                <a:ea typeface="Courier New"/>
              </a:rPr>
              <a:t>--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nt:move(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Agents within cell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Urban Growth in Latin American cities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exploring urban dynamics through agent-based simulation</a:t>
            </a: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5e"/>
                </a:solidFill>
                <a:latin typeface="Calibri"/>
              </a:rPr>
              <a:t>Joana Xavier Barros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597" name="Picture 8" descr="casalogo_transp"/>
          <p:cNvPicPr/>
          <p:nvPr/>
        </p:nvPicPr>
        <p:blipFill>
          <a:blip r:embed="rId1"/>
          <a:stretch/>
        </p:blipFill>
        <p:spPr>
          <a:xfrm>
            <a:off x="301680" y="304920"/>
            <a:ext cx="841320" cy="846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outline"/>
          <p:cNvPicPr/>
          <p:nvPr/>
        </p:nvPicPr>
        <p:blipFill>
          <a:blip r:embed="rId2"/>
          <a:stretch/>
        </p:blipFill>
        <p:spPr>
          <a:xfrm>
            <a:off x="8101080" y="304920"/>
            <a:ext cx="6112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As cidades Latino-americanas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ltas taxas de crescimento urbano (rápida urbanização)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breza + assentamentos espontâneos (favelas)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raco controle das políticas públicas sobre o processo de desenvolvimento urbano 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sultado espacial: tecido urbano fragmentado com padrões morfológicos diferentes e desconectados, que evoluem e se transformam ao longo do tempo.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01" name="Picture 11" descr="C:\CASA\Figuras\belo_periferia_horiz.jpg"/>
          <p:cNvPicPr/>
          <p:nvPr/>
        </p:nvPicPr>
        <p:blipFill>
          <a:blip r:embed="rId1"/>
          <a:stretch/>
        </p:blipFill>
        <p:spPr>
          <a:xfrm>
            <a:off x="914400" y="3973680"/>
            <a:ext cx="72388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Periferizaçã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03" name="Picture 3" descr="caracas_2002"/>
          <p:cNvPicPr/>
          <p:nvPr/>
        </p:nvPicPr>
        <p:blipFill>
          <a:blip r:embed="rId1"/>
          <a:stretch/>
        </p:blipFill>
        <p:spPr>
          <a:xfrm>
            <a:off x="5881680" y="3052800"/>
            <a:ext cx="2652840" cy="31813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Barros&amp;AlvesJunior_figure1"/>
          <p:cNvPicPr/>
          <p:nvPr/>
        </p:nvPicPr>
        <p:blipFill>
          <a:blip r:embed="rId2"/>
          <a:stretch/>
        </p:blipFill>
        <p:spPr>
          <a:xfrm>
            <a:off x="700200" y="3067200"/>
            <a:ext cx="4971960" cy="31636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1081080" y="62341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S</a:t>
            </a: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ã</a:t>
            </a: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o Paulo - Bra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99436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Caracas -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685800" y="1295280"/>
            <a:ext cx="784872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alibri"/>
              </a:rPr>
              <a:t>Processo pelo qual a cidade cresce através da adição de assentamentos de baixa renda no anel perifér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alibri"/>
              </a:rPr>
              <a:t>Estas áreas são lentamente incorporadas à cidade pela expansão urbana, muitas vezes ocupadas por um grupo econômico mais alto, enquanto novos assentamentos de baixa renda continuam emergindo na perif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rescimento urbano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09" name="Picture 4" descr="sprawl"/>
          <p:cNvPicPr/>
          <p:nvPr/>
        </p:nvPicPr>
        <p:blipFill>
          <a:blip r:embed="rId1"/>
          <a:stretch/>
        </p:blipFill>
        <p:spPr>
          <a:xfrm>
            <a:off x="704880" y="2023920"/>
            <a:ext cx="2314440" cy="33400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periferia_"/>
          <p:cNvPicPr/>
          <p:nvPr/>
        </p:nvPicPr>
        <p:blipFill>
          <a:blip r:embed="rId2"/>
          <a:srcRect l="0" t="0" r="-170" b="-691"/>
          <a:stretch/>
        </p:blipFill>
        <p:spPr>
          <a:xfrm>
            <a:off x="5946840" y="2057400"/>
            <a:ext cx="2319120" cy="33130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6"/>
          <p:cNvSpPr/>
          <p:nvPr/>
        </p:nvSpPr>
        <p:spPr>
          <a:xfrm>
            <a:off x="609480" y="1403280"/>
            <a:ext cx="25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pt-BR" sz="1600" spc="-1" strike="noStrike">
                <a:solidFill>
                  <a:srgbClr val="000000"/>
                </a:solidFill>
                <a:latin typeface="Palatino Linotype"/>
              </a:rPr>
              <a:t>Urban sprawl</a:t>
            </a:r>
            <a:r>
              <a:rPr b="0" lang="ja-JP" sz="1600" spc="-1" strike="noStrike">
                <a:solidFill>
                  <a:srgbClr val="000000"/>
                </a:solidFill>
                <a:latin typeface="Palatino Linotype"/>
              </a:rPr>
              <a:t>”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</a:rPr>
              <a:t> nos Estados Un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3282840" y="140328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Palatino Linotype"/>
              </a:rPr>
              <a:t>Urban sprawl</a:t>
            </a:r>
            <a:r>
              <a:rPr b="0" lang="en-GB" sz="1600" spc="-1" strike="noStrike">
                <a:solidFill>
                  <a:srgbClr val="000000"/>
                </a:solidFill>
                <a:latin typeface="Palatino Linotype"/>
              </a:rPr>
              <a:t>”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</a:rPr>
              <a:t>na Europa (Inglater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5875200" y="1371600"/>
            <a:ext cx="25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</a:rPr>
              <a:t>Periferização na América Latina (Bras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bristol_suburbs"/>
          <p:cNvPicPr/>
          <p:nvPr/>
        </p:nvPicPr>
        <p:blipFill>
          <a:blip r:embed="rId3"/>
          <a:stretch/>
        </p:blipFill>
        <p:spPr>
          <a:xfrm>
            <a:off x="3427560" y="2023920"/>
            <a:ext cx="2160360" cy="33130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10"/>
          <p:cNvSpPr/>
          <p:nvPr/>
        </p:nvSpPr>
        <p:spPr>
          <a:xfrm>
            <a:off x="9748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Questões e metodologia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a50021"/>
                </a:solidFill>
                <a:latin typeface="Calibri"/>
              </a:rPr>
              <a:t>Como</a:t>
            </a:r>
            <a:r>
              <a:rPr b="0" lang="pt-BR" sz="2800" spc="-1" strike="noStrike">
                <a:solidFill>
                  <a:srgbClr val="a50021"/>
                </a:solidFill>
                <a:latin typeface="Calibri"/>
              </a:rPr>
              <a:t> esse processo acontece no </a:t>
            </a:r>
            <a:r>
              <a:rPr b="0" i="1" lang="pt-BR" sz="2800" spc="-1" strike="noStrike">
                <a:solidFill>
                  <a:srgbClr val="a50021"/>
                </a:solidFill>
                <a:latin typeface="Calibri"/>
              </a:rPr>
              <a:t>espaço</a:t>
            </a:r>
            <a:r>
              <a:rPr b="0" lang="pt-BR" sz="2800" spc="-1" strike="noStrike">
                <a:solidFill>
                  <a:srgbClr val="a50021"/>
                </a:solidFill>
                <a:latin typeface="Calibri"/>
              </a:rPr>
              <a:t> e no </a:t>
            </a:r>
            <a:r>
              <a:rPr b="0" i="1" lang="pt-BR" sz="2800" spc="-1" strike="noStrike">
                <a:solidFill>
                  <a:srgbClr val="a50021"/>
                </a:solidFill>
                <a:latin typeface="Calibri"/>
              </a:rPr>
              <a:t>tempo</a:t>
            </a:r>
            <a:r>
              <a:rPr b="0" lang="pt-BR" sz="2800" spc="-1" strike="noStrike">
                <a:solidFill>
                  <a:srgbClr val="a50021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graphicSymbols"/>
              </a:rPr>
              <a:t>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NÂMICA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graphicSymbols"/>
              </a:rPr>
              <a:t>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delagem e simulação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omo o espaço é moldado por decisões individuais?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Teoria da Complexidade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EMPO + ESPAÇO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modelos autômatos celulares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estões sociai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simulação baseada no agente (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agent-based simulation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Conections and flows are universal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03200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4070520" cy="407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CaixaDeTexto 7"/>
          <p:cNvSpPr/>
          <p:nvPr/>
        </p:nvSpPr>
        <p:spPr>
          <a:xfrm>
            <a:off x="971640" y="5661000"/>
            <a:ext cx="3490920" cy="1008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"/>
              </a:rPr>
              <a:t>Yeast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"/>
              </a:rPr>
              <a:t>(Barabasi and Boneabau, SciAm, 200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ixaDeTexto 8"/>
          <p:cNvSpPr/>
          <p:nvPr/>
        </p:nvSpPr>
        <p:spPr>
          <a:xfrm>
            <a:off x="4932360" y="5661000"/>
            <a:ext cx="3822840" cy="1008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"/>
              </a:rPr>
              <a:t>Scientists in Silicon Val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"/>
              </a:rPr>
              <a:t>(Fleming and Marx, Calif Mngt Rew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Calibri"/>
                <a:ea typeface="DejaVu Sans"/>
              </a:rPr>
              <a:t>Simulador de Periferização</a:t>
            </a:r>
            <a:endParaRPr b="1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Times New Roman"/>
              </a:rPr>
              <a:t>Reproduz o processo de expulsão e expansão simulando o processo de localização residencial de 3 grupos econômicos distintos. 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Times New Roman"/>
              </a:rPr>
              <a:t>Assume que apesar das diferenças econômicas, todos os agentes tem as mesmas preferências locacionais, ou seja, todos querem se localizar nas melhores áreas da cidade, que nas cidades latino-americanas Latina são as áreas de alta renda.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Todos os agentes tem as </a:t>
            </a:r>
            <a:r>
              <a:rPr b="0" i="1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mesmas preferências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 mas </a:t>
            </a:r>
            <a:r>
              <a:rPr b="0" i="1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restrições diferentes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20" name="Picture 2" descr="http://www.settemuse.it/pittori_scultori_italiani/sironi/mario_sironi_009_periferia_1922.jpg"/>
          <p:cNvPicPr/>
          <p:nvPr/>
        </p:nvPicPr>
        <p:blipFill>
          <a:blip r:embed="rId1"/>
          <a:stretch/>
        </p:blipFill>
        <p:spPr>
          <a:xfrm>
            <a:off x="2556000" y="3500280"/>
            <a:ext cx="41288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Módulo de Periferização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22" name="Picture 4" descr="E:\module01.jpg"/>
          <p:cNvPicPr/>
          <p:nvPr/>
        </p:nvPicPr>
        <p:blipFill>
          <a:blip r:embed="rId1"/>
          <a:stretch/>
        </p:blipFill>
        <p:spPr>
          <a:xfrm>
            <a:off x="2050920" y="3429000"/>
            <a:ext cx="5977080" cy="3240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6"/>
          <p:cNvSpPr/>
          <p:nvPr/>
        </p:nvSpPr>
        <p:spPr>
          <a:xfrm>
            <a:off x="623880" y="981000"/>
            <a:ext cx="852012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 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Agente alta renda – pode se localizar em qualquer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 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Agente renda média – pode se localizar em qualquer lugar menos onde já existem agentes de alta r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 </a:t>
            </a: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Agente renda baixa – só pode se localizar em lugares vaz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3f"/>
                </a:solidFill>
                <a:latin typeface="Calibri"/>
                <a:ea typeface="Arial Unicode MS"/>
              </a:rPr>
              <a:t>Um agente pode ocupar a célula de outro agente e quando um agente é expulso ele procura outro lugar para se ass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Módulo de Periferização – exercícios de simulação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25" name="Picture 1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530960" cy="1800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" descr=""/>
          <p:cNvPicPr/>
          <p:nvPr/>
        </p:nvPicPr>
        <p:blipFill>
          <a:blip r:embed="rId2"/>
          <a:stretch/>
        </p:blipFill>
        <p:spPr>
          <a:xfrm>
            <a:off x="4038480" y="4419720"/>
            <a:ext cx="4538880" cy="146196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9"/>
          <p:cNvSpPr/>
          <p:nvPr/>
        </p:nvSpPr>
        <p:spPr>
          <a:xfrm>
            <a:off x="457200" y="1295280"/>
            <a:ext cx="358128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adrão espa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não existe nada nas regras que determine que o resultado espacial do modelo seja um padrão segregado ou que  os agentes de renda alta se localizem no centro, rodeados por anéis de agentes de renda média e baix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o padrão se aproxima da estrutura espacial de localização residencial encontrada em cidades latino-america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Sementes múltiplas como condição inicial – produz padrão com características de áreas metropolita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Comparação com a realidade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1962000" y="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SP-abcd"/>
          <p:cNvPicPr/>
          <p:nvPr/>
        </p:nvPicPr>
        <p:blipFill>
          <a:blip r:embed="rId1"/>
          <a:stretch/>
        </p:blipFill>
        <p:spPr>
          <a:xfrm>
            <a:off x="3467160" y="1295280"/>
            <a:ext cx="5219640" cy="53532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Mapas de distribuição de renda - S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ão Paulo</a:t>
            </a:r>
            <a:endParaRPr b="0" lang="en-US" sz="17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Censo 2000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pas A and B: quantile breaks (3 and 6 ranges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pas C and D: natural breaks (3 and 6 ranges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bservação: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Não trabalhamos com nenhum tipo de definição de grupos econômicos.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Processos intra-urbanos – exercícios de simulação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studo comparativo entre dois padrões diferentes de desenvolvimento urbano: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rban sprawl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s cidades dos EUA e Europa e o crescimento urbano das cidades latino-americanas. 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 de testar hipóteses e teorias sobre processos intra-urbanos de transformação urbana em áreas residenciais e verificar a aplicabilidade dessas teorias para cidades de diferentes culturas.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457200" y="4254480"/>
            <a:ext cx="8104320" cy="237492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8"/>
          <p:cNvSpPr/>
          <p:nvPr/>
        </p:nvSpPr>
        <p:spPr>
          <a:xfrm>
            <a:off x="457200" y="2971800"/>
            <a:ext cx="27432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dade latino-ameri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10 40 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1332360" y="3456000"/>
            <a:ext cx="1825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cayStartPoint =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olidationLimit = 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5791320" y="2971800"/>
            <a:ext cx="27432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dade EUA e Eur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40 50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5834520" y="3456000"/>
            <a:ext cx="1825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ps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cayStartPoint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olidationLimit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Processos intra-urbanos – exercícios de simulação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os de filtragem, decadência do centro,  e movimento das elites em direção ao anel periférico são de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ureza semelhante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m ambas cidades.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 padrão locacional espacial reverso parece ser causado por uma combinação de diferenças em grau em processos de natureza similar. 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s diferenças na composição das sociedades urbanas de cada país parece exercer um grande impacto no resultado desses processos no padrão espacial urbano de localização residencial.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Módulo de Barreiras Espaciais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Introduz barreiras espaciais ao modelo de simulação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Barreiras espaciais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 corpos de água, áreas com altas declividades, or qualquer outra área onde a urbanização é impossível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Implementação feita através da introdução de “áreas cinzas” como condição inicial.</a:t>
            </a:r>
            <a:r>
              <a:rPr b="0" lang="en-GB" sz="18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Agen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</a:t>
            </a:r>
            <a:r>
              <a:rPr b="1" lang="en-GB" sz="16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s rules:</a:t>
            </a:r>
            <a:r>
              <a:rPr b="0" lang="en-GB" sz="20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Agentes não se assentam ou caminham em sobre as áreas cinzas</a:t>
            </a:r>
            <a:endParaRPr b="0" lang="en-US" sz="14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  <a:ea typeface="ヒラギノ角ゴ Pro W3"/>
              </a:rPr>
              <a:t>Para cada movimento que os agentes fazem em direção a uma nova célula, eles checam se a nova posição é uma célula cinza ou não, e caso seja, eles retornam as suas posições iniciais e modificam suas direções para evitar que retornem para a mesma célula.</a:t>
            </a:r>
            <a:endParaRPr b="0" lang="en-US" sz="14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43" name="Picture 5" descr="spatial-constraintsphoto"/>
          <p:cNvPicPr/>
          <p:nvPr/>
        </p:nvPicPr>
        <p:blipFill>
          <a:blip r:embed="rId1"/>
          <a:stretch/>
        </p:blipFill>
        <p:spPr>
          <a:xfrm>
            <a:off x="1676520" y="4229280"/>
            <a:ext cx="2466720" cy="24001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snapshot1.0"/>
          <p:cNvPicPr/>
          <p:nvPr/>
        </p:nvPicPr>
        <p:blipFill>
          <a:blip r:embed="rId2"/>
          <a:stretch/>
        </p:blipFill>
        <p:spPr>
          <a:xfrm>
            <a:off x="5029200" y="41911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Exercícios com Barreiras Espaciais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Objetivo: testar os impactos das barreiras espaciais nas tendências de desenvolvimento espacial mostradas pelo modelo nos experimentos anteriores, e verificar como essas tendências podem ser relacionadas com a realidade. ]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ostra como a simples introdução de áreas inatingíveis dentro da malha pode moldar o desenvolvimento espacial de maneiras tão diferentes.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47" name="Picture 1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7966080" cy="17128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533520" y="5799240"/>
            <a:ext cx="7966080" cy="83016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6"/>
          <p:cNvSpPr/>
          <p:nvPr/>
        </p:nvSpPr>
        <p:spPr>
          <a:xfrm>
            <a:off x="457200" y="329076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alatino Linotype"/>
              </a:rPr>
              <a:t>Exercícios com Módulo de Perifer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4419720" y="5319720"/>
            <a:ext cx="4114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posição inicial dos agentes no centro da mal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533520" y="556272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posição inicial dos agentes na célula-se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Exercícios com Barreiras Espaciais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653" name="Picture 1" descr=""/>
          <p:cNvPicPr/>
          <p:nvPr/>
        </p:nvPicPr>
        <p:blipFill>
          <a:blip r:embed="rId1"/>
          <a:stretch/>
        </p:blipFill>
        <p:spPr>
          <a:xfrm>
            <a:off x="533520" y="2043000"/>
            <a:ext cx="7966080" cy="1714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533520" y="4338720"/>
            <a:ext cx="7966080" cy="82872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457200" y="15238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alatino Linotype"/>
              </a:rPr>
              <a:t>Exercícios com Módulo de Processos Intra-urb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4419720" y="3705120"/>
            <a:ext cx="4114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posição inicial dos agentes no centro da mal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533520" y="41004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Palatino Linotype"/>
              </a:rPr>
              <a:t>posição inicial dos agentes na célula-se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533520" y="5410080"/>
            <a:ext cx="80010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mportância das barreiras espaciais para que a simulação produza um padrão mais realí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o papel das barreiras espaciais para o entendimento da morfologia urb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Calibri"/>
                <a:ea typeface="DejaVu Sans"/>
              </a:rPr>
              <a:t>Comparação com a realidade</a:t>
            </a:r>
            <a:endParaRPr b="1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048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Mapas of distribuição de renda para Porto Alegre.</a:t>
            </a:r>
            <a:endParaRPr b="0" lang="en-US" sz="17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(Censo 2000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pas A e B: quantile breaks (3 and 6 ranges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pas C e D: natural breaks (3 and 6 ranges)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Não trabalhamos com definição de grupos de renda.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96200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4" descr="poa-semguaiba"/>
          <p:cNvPicPr/>
          <p:nvPr/>
        </p:nvPicPr>
        <p:blipFill>
          <a:blip r:embed="rId1"/>
          <a:stretch/>
        </p:blipFill>
        <p:spPr>
          <a:xfrm>
            <a:off x="3467160" y="1295280"/>
            <a:ext cx="52196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formation flows in the brai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4276800" cy="321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572000" y="1928880"/>
            <a:ext cx="4334040" cy="3616200"/>
          </a:xfrm>
          <a:prstGeom prst="rect">
            <a:avLst/>
          </a:prstGeom>
          <a:ln w="0">
            <a:noFill/>
          </a:ln>
        </p:spPr>
      </p:pic>
      <p:sp>
        <p:nvSpPr>
          <p:cNvPr id="225" name="CaixaDeTexto 4"/>
          <p:cNvSpPr/>
          <p:nvPr/>
        </p:nvSpPr>
        <p:spPr>
          <a:xfrm>
            <a:off x="428760" y="5786280"/>
            <a:ext cx="8548560" cy="82548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Neurons transmit electrical information, which generate conscience and e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4" name="Retângulo 3"/>
          <p:cNvSpPr/>
          <p:nvPr/>
        </p:nvSpPr>
        <p:spPr>
          <a:xfrm>
            <a:off x="684360" y="112536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crie uma cidade (espaço cel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idade =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llularSpace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{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xdim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= TAMANHO,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ydim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= TAMANHO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define uma vizinhança 3x3 para o espaç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reateMooreNeighborhood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cidade, "1", 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preenche o espaço celular com celulas vaz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iniciar (c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a a celula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ntro =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oord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{ x = TAMANHO/2, y = TAMANHO/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lulaCentral = cidade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getCell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cent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cria uma sociedade de a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opulacao =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Society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createAgent, POPULACA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a um lugar para cada agente na 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orEachAgent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populaca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(ag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eLugar(ag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6" name="Retângulo 3"/>
          <p:cNvSpPr/>
          <p:nvPr/>
        </p:nvSpPr>
        <p:spPr>
          <a:xfrm>
            <a:off x="684360" y="112536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Parâmetros do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TAMANHO =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OPULACAO = TAMANHO*TAMANHO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VAG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OBR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MEDIADO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ICO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ROP_RICO =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ROP_REMEDIADO =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PROP_POBRE =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-- funcoes auxilia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 iniciar (c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orEachCell(cida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(cel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ll.ocupante = V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8" name="Retângulo 3"/>
          <p:cNvSpPr/>
          <p:nvPr/>
        </p:nvSpPr>
        <p:spPr>
          <a:xfrm>
            <a:off x="684360" y="1125360"/>
            <a:ext cx="820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 createAge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gent = Age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lasse = geraClass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celula = celula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gera uma classe social para o a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 geraClas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valor = math.rando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if valor &lt; PROP_POBRE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P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lseif valor &lt; PROP_POBRE + PROP_REMEDIADO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REMED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0" name="Retângulo 3"/>
          <p:cNvSpPr/>
          <p:nvPr/>
        </p:nvSpPr>
        <p:spPr>
          <a:xfrm>
            <a:off x="684360" y="949320"/>
            <a:ext cx="8208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acheLugar(agent)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a um lugar para m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peat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busca um lugar que gostaria de m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lugar = random_walk (ag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move o agente para o lugar que gostaria de m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gent.celula = 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bate na porta e chama os mo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moradores = lugar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getAgent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verifica se tem algu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if getsize(moradores) == 0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se nao tem ninguem, ocupa a ce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gent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ter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lugar.ocupante = agent.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lse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tem 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dono = moradores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expulsa_morador (agent, dono, 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until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achou_lugar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procura local para morar até a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2" name="Retângulo 3"/>
          <p:cNvSpPr/>
          <p:nvPr/>
        </p:nvSpPr>
        <p:spPr>
          <a:xfrm>
            <a:off x="539640" y="198900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random_walk (ag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e um vizinho aleatorio numa vizinhança 3 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vizinho  = agent.celula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getNeighborhood():samp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ache o vizinho do vizi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vizinho2 = vizinho:</a:t>
            </a:r>
            <a:r>
              <a:rPr b="1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getNeighborhood():samp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vizinh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Periferização no TerraME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4" name="Retângulo 3"/>
          <p:cNvSpPr/>
          <p:nvPr/>
        </p:nvSpPr>
        <p:spPr>
          <a:xfrm>
            <a:off x="684360" y="98100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function expulsa_morador (agent, dono, 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compara a classe social do agente e do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if (dono.classe == POBR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(agent.classe == RICO or agent.classe == REMEDIADO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or (dono.classe == REMEDIADO and agent.classe == RICO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o morador sai da ce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dono:leave(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o agente entra na cel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gent:enter(l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o status da celula m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lugar.ocupante = agent.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o morador expulso procura outro lu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eLugar(do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indica que o agente achou um lugar para m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achou_lugar = false </a:t>
            </a:r>
            <a:r>
              <a:rPr b="0" lang="pt-BR" sz="1800" spc="-1" strike="noStrike">
                <a:solidFill>
                  <a:srgbClr val="996633"/>
                </a:solidFill>
                <a:latin typeface="Consolas"/>
                <a:ea typeface="Consolas"/>
              </a:rPr>
              <a:t>-- nada feito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    </a:t>
            </a: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return achou_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3f"/>
                </a:solidFill>
                <a:latin typeface="Consolas"/>
                <a:ea typeface="Consola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Do it now!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9480" y="1196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wnload all databases from the EXAMPLES available at </a:t>
            </a:r>
            <a:r>
              <a:rPr b="0" lang="pt-BR" sz="2800" spc="-1" strike="noStrike" u="sng">
                <a:solidFill>
                  <a:srgbClr val="666699"/>
                </a:solidFill>
                <a:uFillTx/>
                <a:latin typeface="Calibri"/>
                <a:hlinkClick r:id="rId1"/>
              </a:rPr>
              <a:t>www.terrame.org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ut all the databases inside the c:\TerraME\database\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wnload the models and make them run properly: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ain_drainage.lua 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ire_spread-access.lua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 the “try” commments inside the codes and explain the models’behavior</a:t>
            </a:r>
            <a:endParaRPr b="0" lang="en-US" sz="28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formation flows generate cooperation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6999480" cy="5086440"/>
          </a:xfrm>
          <a:prstGeom prst="rect">
            <a:avLst/>
          </a:prstGeom>
          <a:ln w="0">
            <a:noFill/>
          </a:ln>
        </p:spPr>
      </p:pic>
      <p:sp>
        <p:nvSpPr>
          <p:cNvPr id="228" name="CaixaDeTexto 3"/>
          <p:cNvSpPr/>
          <p:nvPr/>
        </p:nvSpPr>
        <p:spPr>
          <a:xfrm>
            <a:off x="428760" y="6396120"/>
            <a:ext cx="8548560" cy="459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White cells attact a cancer cell (cooperative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ângulo 4"/>
          <p:cNvSpPr/>
          <p:nvPr/>
        </p:nvSpPr>
        <p:spPr>
          <a:xfrm>
            <a:off x="6643800" y="5857920"/>
            <a:ext cx="2500200" cy="45900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5e"/>
                </a:solidFill>
                <a:latin typeface="Calibri"/>
                <a:ea typeface="Arial"/>
              </a:rPr>
              <a:t>Foto: National Cancer Institute, EUA http://visualsonline.cancer.gov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Calibri"/>
              </a:rPr>
              <a:t>Information flows in planet Earth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5708880" cy="5286240"/>
          </a:xfrm>
          <a:prstGeom prst="rect">
            <a:avLst/>
          </a:prstGeom>
          <a:ln w="0">
            <a:noFill/>
          </a:ln>
        </p:spPr>
      </p:pic>
      <p:sp>
        <p:nvSpPr>
          <p:cNvPr id="232" name="CaixaDeTexto 4"/>
          <p:cNvSpPr/>
          <p:nvPr/>
        </p:nvSpPr>
        <p:spPr>
          <a:xfrm>
            <a:off x="1116000" y="6165720"/>
            <a:ext cx="7238880" cy="459720"/>
          </a:xfrm>
          <a:prstGeom prst="rect">
            <a:avLst/>
          </a:prstGeom>
          <a:solidFill>
            <a:srgbClr val="d0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5e"/>
                </a:solidFill>
                <a:latin typeface="Calibri"/>
                <a:ea typeface="Arial"/>
              </a:rPr>
              <a:t>Mass and energy transfer between points i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Calibri"/>
                <a:ea typeface="DejaVu Sans"/>
              </a:rPr>
              <a:t>Complex adaptative systems</a:t>
            </a:r>
            <a:endParaRPr b="1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4360" y="5562720"/>
            <a:ext cx="4249440" cy="129528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Calibri"/>
              </a:rPr>
              <a:t>How come that a city with many inhabitants functions and exhibits patterns of regularity?</a:t>
            </a: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235" name="Picture 10" descr="npo0002c1"/>
          <p:cNvPicPr/>
          <p:nvPr/>
        </p:nvPicPr>
        <p:blipFill>
          <a:blip r:embed="rId1"/>
          <a:stretch/>
        </p:blipFill>
        <p:spPr>
          <a:xfrm>
            <a:off x="684360" y="1197000"/>
            <a:ext cx="4103640" cy="2978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4932360" y="3205080"/>
            <a:ext cx="4211640" cy="3652920"/>
          </a:xfrm>
          <a:prstGeom prst="rect">
            <a:avLst/>
          </a:prstGeom>
          <a:ln w="0">
            <a:noFill/>
          </a:ln>
        </p:spPr>
      </p:pic>
      <p:sp>
        <p:nvSpPr>
          <p:cNvPr id="237" name="Retângulo 5"/>
          <p:cNvSpPr/>
          <p:nvPr/>
        </p:nvSpPr>
        <p:spPr>
          <a:xfrm>
            <a:off x="4788000" y="1197000"/>
            <a:ext cx="4356000" cy="1557000"/>
          </a:xfrm>
          <a:prstGeom prst="rect">
            <a:avLst/>
          </a:prstGeom>
          <a:solidFill>
            <a:srgbClr val="c8d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Calibri"/>
                <a:ea typeface="Calibri"/>
              </a:rPr>
              <a:t>How come that an ecosystem with all its diverse species functions and exhibits patterns of regular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20:15:58Z</dcterms:created>
  <dc:creator>Gilberto Camara</dc:creator>
  <dc:description/>
  <cp:keywords/>
  <dc:language>en-US</dc:language>
  <cp:lastModifiedBy>tiago</cp:lastModifiedBy>
  <dcterms:modified xsi:type="dcterms:W3CDTF">2014-08-07T09:23:48Z</dcterms:modified>
  <cp:revision>68</cp:revision>
  <dc:subject/>
  <dc:title>Introduction to Spatial Dynamical Modelling</dc:title>
</cp:coreProperties>
</file>